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326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F56-B293-4FB4-AD9E-7E8AB701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DAC-65C8-4E22-A59A-133FF120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6BE-826A-4B0B-B49D-EFDAD3A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A27-21B6-4AF4-BA61-BDB2AB59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C0A-10A4-4210-8815-66989E7F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E7F7-1F8A-4F1C-9E86-8E44255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846F-A19D-4403-8BCE-68D938C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1F33-0EC4-4750-841F-0871307E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D67F-3924-4366-A9D1-8E01990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160-CF6F-4EA5-A289-19967E7B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10B-D69A-46DF-AD12-674C5FB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12A-8496-4A80-BF34-2404DE9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CF2F-B08F-407C-8C75-D9D5EAA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D171-1CC1-4683-BD34-74B015A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D7D-0B6F-4805-8AD2-B5CE75D3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E9D2-0916-41F7-9997-8C437E91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F899-CB5C-4804-8E1F-12A3BC7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8E6-8BE2-45A7-86AA-749A790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EEB-0B07-4F49-9FB1-6DA0B4C8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1DC-CF7C-419D-95AE-19B48EF9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799-60A8-4CD1-874D-F238EAB9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AC8-71B5-4360-AB6E-E6A5E82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41-343D-4875-96AB-749E3FF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0AA-7544-41E3-A9F8-29C8C1B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A57-A40E-4C72-92ED-64E3C7441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AF2-0C70-4515-A642-F3D08BD2CCA4}" type="slidenum"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ii.ox.ac.uk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cybermetrics.wlv.ac.uk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ucm.es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cyberemotions.eu/eye/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roduction to Sentiment Analysis with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SentiStrength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1, Part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OII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[Åbo Akademi University logo]"/>
          <p:cNvPicPr/>
          <p:nvPr/>
        </p:nvPicPr>
        <p:blipFill>
          <a:blip r:embed="rId4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12" descr="University of Wolverhampton - A Learning Environment for the 21st Century"/>
          <p:cNvPicPr/>
          <p:nvPr/>
        </p:nvPicPr>
        <p:blipFill>
          <a:blip r:embed="rId5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Statistical Cybermetrics Research Gro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8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Universidad Complutense de Madri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est data: Inter-coder agreemen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219640" y="1916280"/>
          <a:ext cx="3184560" cy="4114800"/>
        </p:xfrm>
        <a:graphic>
          <a:graphicData uri="http://schemas.openxmlformats.org/drawingml/2006/table">
            <a:tbl>
              <a:tblPr/>
              <a:tblGrid>
                <a:gridCol w="1484280"/>
                <a:gridCol w="812880"/>
                <a:gridCol w="887400"/>
              </a:tblGrid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mparison for 1041 MySpace text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gree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gree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1 vs.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1 vs.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6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der 2 vs.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8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252"/>
          <p:cNvSpPr/>
          <p:nvPr/>
        </p:nvSpPr>
        <p:spPr>
          <a:xfrm>
            <a:off x="685080" y="2492280"/>
            <a:ext cx="399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Krippendorff’s inter-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eighted alpha = 0.574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r positive and 0.56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r negative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Only moderate agre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etween cod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ut it is a hard, subjec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5-category task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Results:+ve sentiment strengt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826920" y="1533600"/>
          <a:ext cx="7552080" cy="5330880"/>
        </p:xfrm>
        <a:graphic>
          <a:graphicData uri="http://schemas.openxmlformats.org/drawingml/2006/table">
            <a:tbl>
              <a:tblPr/>
              <a:tblGrid>
                <a:gridCol w="2559240"/>
                <a:gridCol w="1185840"/>
                <a:gridCol w="1187280"/>
                <a:gridCol w="1292400"/>
                <a:gridCol w="1327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#featur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/-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rrelat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SentiStreng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6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96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.59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imple logistic regress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8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5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5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3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48 classification t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5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4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Rip rule-based classifi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4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7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regression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4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6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daBoos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3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7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ision tabl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3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6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3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ultilayer Perceptr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4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2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aïve Bay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9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4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56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7.3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4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9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01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</a:tbl>
          </a:graphicData>
        </a:graphic>
      </p:graphicFrame>
      <p:sp>
        <p:nvSpPr>
          <p:cNvPr id="262" name="TextBox 1"/>
          <p:cNvSpPr/>
          <p:nvPr/>
        </p:nvSpPr>
        <p:spPr>
          <a:xfrm>
            <a:off x="1870200" y="0"/>
            <a:ext cx="72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 vs. 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693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ther algorithms/vari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10-fold cross-validation, 30 repeti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sults:-ve sentiment strengt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26920" y="1549440"/>
          <a:ext cx="7815600" cy="5315040"/>
        </p:xfrm>
        <a:graphic>
          <a:graphicData uri="http://schemas.openxmlformats.org/drawingml/2006/table">
            <a:tbl>
              <a:tblPr/>
              <a:tblGrid>
                <a:gridCol w="2559240"/>
                <a:gridCol w="1100160"/>
                <a:gridCol w="1344600"/>
                <a:gridCol w="1477800"/>
                <a:gridCol w="1333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#featur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+/-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rrelat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73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42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VM regression (SMO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3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6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imple logistic regress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SentiStreng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95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.56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ision tabl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7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Rip rule-based classifi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0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48 classification t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2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ultilayer Perceptr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0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2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daBoos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9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9.9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0.6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aïve Bay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8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9.8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31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0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.0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9c1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104"/>
          <p:cNvSpPr/>
          <p:nvPr/>
        </p:nvSpPr>
        <p:spPr>
          <a:xfrm>
            <a:off x="1758600" y="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 vs. 693 other algorithms/vari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ample differences/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THINK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4 THE A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mputer (1,-1), Human (2,-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0MG 0MG 0MG 0MG 0MG 0MG 0MG 0MG!!!!!!!!!!!!!!!!!!!!N33N3R!!!!!!!!!!!!!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mputer (2,-1), Human (5,-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7596360" y="4724280"/>
            <a:ext cx="1276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strength detection with SentiStrength - Version 2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1, Part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OII logo"/>
          <p:cNvPicPr/>
          <p:nvPr/>
        </p:nvPicPr>
        <p:blipFill>
          <a:blip r:embed="rId2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[Åbo Akademi University logo]"/>
          <p:cNvPicPr/>
          <p:nvPr/>
        </p:nvPicPr>
        <p:blipFill>
          <a:blip r:embed="rId3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5" name="Picture 12" descr="University of Wolverhampton - A Learning Environment for the 21st Century"/>
          <p:cNvPicPr/>
          <p:nvPr/>
        </p:nvPicPr>
        <p:blipFill>
          <a:blip r:embed="rId4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Statistical Cybermetrics Research Group"/>
          <p:cNvPicPr/>
          <p:nvPr/>
        </p:nvPicPr>
        <p:blipFill>
          <a:blip r:embed="rId5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"/>
          <p:cNvPicPr/>
          <p:nvPr/>
        </p:nvPicPr>
        <p:blipFill>
          <a:blip r:embed="rId6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Universidad Complutense de Madrid"/>
          <p:cNvPicPr/>
          <p:nvPr/>
        </p:nvPicPr>
        <p:blipFill>
          <a:blip r:embed="rId7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xtended sentiment dictionary to cope with a range of types of social web s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890 sentiment terms increased to 248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ntiStrength 2 is designed to work on many different social web s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oes not pick up domain-specific non-sentiment terms, e.g., G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sted on 6 different social web data 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513360" y="6165720"/>
            <a:ext cx="8241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Thelwall, M., Buckley, K., &amp; Paltoglou, G. (2012). Sentiment Strength Detection for the Social Web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 , 63(1), 163-173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6 Social web data 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Picture 4" descr="f1 pos senti 7"/>
          <p:cNvPicPr/>
          <p:nvPr/>
        </p:nvPicPr>
        <p:blipFill>
          <a:blip r:embed="rId1"/>
          <a:stretch/>
        </p:blipFill>
        <p:spPr>
          <a:xfrm>
            <a:off x="108000" y="1413000"/>
            <a:ext cx="8713800" cy="3719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f2 neg senti 7"/>
          <p:cNvPicPr/>
          <p:nvPr/>
        </p:nvPicPr>
        <p:blipFill>
          <a:blip r:embed="rId2"/>
          <a:stretch/>
        </p:blipFill>
        <p:spPr>
          <a:xfrm>
            <a:off x="0" y="5214960"/>
            <a:ext cx="3708360" cy="16430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4830840" y="603576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o test on a wide r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of different Social Web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2 (unsupervised) test resu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484360" y="2133720"/>
          <a:ext cx="5400720" cy="4270320"/>
        </p:xfrm>
        <a:graphic>
          <a:graphicData uri="http://schemas.openxmlformats.org/drawingml/2006/table">
            <a:tbl>
              <a:tblPr/>
              <a:tblGrid>
                <a:gridCol w="2232000"/>
                <a:gridCol w="1536840"/>
                <a:gridCol w="1631880"/>
              </a:tblGrid>
              <a:tr h="92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ata se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sitive Correlatio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egative Correlatio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ouTub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0.58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0.52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ySpac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64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9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witt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4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49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ports forum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6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4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igg.com new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35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5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BC forum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29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9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47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ll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5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.5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4"/>
          <p:cNvSpPr/>
          <p:nvPr/>
        </p:nvSpPr>
        <p:spPr>
          <a:xfrm>
            <a:off x="1332000" y="162864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sted against human coder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Text Box 64"/>
          <p:cNvSpPr/>
          <p:nvPr/>
        </p:nvSpPr>
        <p:spPr>
          <a:xfrm>
            <a:off x="2165040" y="1413000"/>
            <a:ext cx="545220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ocial web sentiment analysis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ess domain dependant than review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hy the bad results for BBC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ong texts, mainly negative, expressive language used, e.g.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avid Cameron must b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very happy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at I have lost my job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t i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really interesting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at David Cameron and most of his ministers are millionai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r argument is a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jok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entiStrength vs. Machine learning for Social Web text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chine learning performs a bit better overall (7 out of 12 data sets/+ve or negativ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ogistic Regression with trigrams, including punctuation and emoticons; 200 feat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ut machine learning has problems for some tas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omain transfer: does not work well on domains after the first 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ace validity”: identifies sentiment-related topics and language style – e.g., “israel”, “palestine”, “you will”, “people say” are all identified as indicators of negative sentiment, despite being neut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635280" y="-1989000"/>
            <a:ext cx="7780320" cy="659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971800" y="2305080"/>
            <a:ext cx="6172200" cy="46101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5148360" cy="6892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77040" y="115920"/>
            <a:ext cx="5191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http://www.cyberemotions.eu/eye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54000" y="587700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Used for light displays on the London Eye during the Olympi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10 commercial users; available in 6 languag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Strength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ersions: Windows, Java, live online (sentistrength.wlv.ac.uk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erman version (Hannes Pirk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ariants: Binary (positive/negative), trinary (positive/neutral/negative) and scale (-4 to +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old commercially - &amp; purchasers converting to French, Spanish, Portuguese, Finnis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940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strength detection: SentiStrength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63440" y="3212640"/>
            <a:ext cx="6894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ike Thelw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versity of Wolverhampton, U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ssion 1, Part 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9" name="Picture 6" descr="Oxford Internet Institute, University of Oxford"/>
          <p:cNvPicPr/>
          <p:nvPr/>
        </p:nvPicPr>
        <p:blipFill>
          <a:blip r:embed="rId1"/>
          <a:stretch/>
        </p:blipFill>
        <p:spPr>
          <a:xfrm>
            <a:off x="826920" y="33336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II logo"/>
          <p:cNvPicPr/>
          <p:nvPr/>
        </p:nvPicPr>
        <p:blipFill>
          <a:blip r:embed="rId2"/>
          <a:stretch/>
        </p:blipFill>
        <p:spPr>
          <a:xfrm>
            <a:off x="250920" y="333360"/>
            <a:ext cx="571320" cy="438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[Åbo Akademi University logo]"/>
          <p:cNvPicPr/>
          <p:nvPr/>
        </p:nvPicPr>
        <p:blipFill>
          <a:blip r:embed="rId3"/>
          <a:stretch/>
        </p:blipFill>
        <p:spPr>
          <a:xfrm>
            <a:off x="7236000" y="189000"/>
            <a:ext cx="1571400" cy="6872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1"/>
          <p:cNvSpPr/>
          <p:nvPr/>
        </p:nvSpPr>
        <p:spPr>
          <a:xfrm>
            <a:off x="7260120" y="90792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Information Stud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Picture 12" descr="University of Wolverhampton - A Learning Environment for the 21st Century"/>
          <p:cNvPicPr/>
          <p:nvPr/>
        </p:nvPicPr>
        <p:blipFill>
          <a:blip r:embed="rId4"/>
          <a:stretch/>
        </p:blipFill>
        <p:spPr>
          <a:xfrm>
            <a:off x="6324480" y="6019920"/>
            <a:ext cx="2610000" cy="628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Statistical Cybermetrics Research Group"/>
          <p:cNvPicPr/>
          <p:nvPr/>
        </p:nvPicPr>
        <p:blipFill>
          <a:blip r:embed="rId5"/>
          <a:stretch/>
        </p:blipFill>
        <p:spPr>
          <a:xfrm>
            <a:off x="0" y="571500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/>
          <p:cNvPicPr/>
          <p:nvPr/>
        </p:nvPicPr>
        <p:blipFill>
          <a:blip r:embed="rId6"/>
          <a:stretch/>
        </p:blipFill>
        <p:spPr>
          <a:xfrm>
            <a:off x="3419640" y="5661000"/>
            <a:ext cx="2339640" cy="1009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Universidad Complutense de Madrid"/>
          <p:cNvPicPr/>
          <p:nvPr/>
        </p:nvPicPr>
        <p:blipFill>
          <a:blip r:embed="rId7"/>
          <a:stretch/>
        </p:blipFill>
        <p:spPr>
          <a:xfrm>
            <a:off x="4071960" y="166680"/>
            <a:ext cx="84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Net26_grindex"/>
          <p:cNvPicPr/>
          <p:nvPr/>
        </p:nvPicPr>
        <p:blipFill>
          <a:blip r:embed="rId1"/>
          <a:stretch/>
        </p:blipFill>
        <p:spPr>
          <a:xfrm>
            <a:off x="5867280" y="260280"/>
            <a:ext cx="2438640" cy="2332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627280" cy="1930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309" name="Picture 4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4249800" cy="1833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4"/>
          <a:stretch/>
        </p:blipFill>
        <p:spPr>
          <a:xfrm>
            <a:off x="2411280" y="1844640"/>
            <a:ext cx="2808360" cy="2109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115560" y="6381720"/>
            <a:ext cx="6944400" cy="307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CYBEREMOTIONS = </a:t>
            </a:r>
            <a:r>
              <a:rPr b="1" lang="pl-PL" sz="1400" spc="-1" strike="noStrike">
                <a:solidFill>
                  <a:srgbClr val="6f89f7"/>
                </a:solidFill>
                <a:latin typeface="Arial Unicode MS"/>
                <a:ea typeface="Arial Unicode MS"/>
              </a:rPr>
              <a:t>data gathering</a:t>
            </a:r>
            <a:r>
              <a:rPr b="1" lang="pl-PL" sz="14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 + </a:t>
            </a:r>
            <a:r>
              <a:rPr b="1" lang="pl-PL" sz="1400" spc="-1" strike="noStrike">
                <a:solidFill>
                  <a:srgbClr val="000099"/>
                </a:solidFill>
                <a:latin typeface="Arial"/>
                <a:ea typeface="Arial Unicode MS"/>
              </a:rPr>
              <a:t>complex systems methods</a:t>
            </a:r>
            <a:r>
              <a:rPr b="1" lang="pl-PL" sz="14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 + </a:t>
            </a:r>
            <a:r>
              <a:rPr b="1" lang="pl-PL" sz="1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ICT output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377320" y="4653000"/>
            <a:ext cx="31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llective Emo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 Cyber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5915520" y="3009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streng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ocial application – sentiment in Twitter event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alysis of a corpus of 1 month of English Twitter po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utomatic detection of spikes (even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ntiment strength classification of all po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sessment of whether sentiment strength increases during important ev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93280" y="6165720"/>
            <a:ext cx="815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helwall, M., Buckley, K., &amp; Paltoglou, G. (2011). Sentiment in Twitter event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,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62(2), 406-418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Automatically-identified Twitter spik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9" name="Picture 4" descr="top events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111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6"/>
          <p:cNvSpPr/>
          <p:nvPr/>
        </p:nvSpPr>
        <p:spPr>
          <a:xfrm>
            <a:off x="7934400" y="623736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-11160" y="638172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8"/>
          <p:cNvSpPr/>
          <p:nvPr/>
        </p:nvSpPr>
        <p:spPr>
          <a:xfrm flipH="1" flipV="1">
            <a:off x="394920" y="5949720"/>
            <a:ext cx="144360" cy="431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9"/>
          <p:cNvSpPr/>
          <p:nvPr/>
        </p:nvSpPr>
        <p:spPr>
          <a:xfrm flipV="1">
            <a:off x="7956720" y="5876640"/>
            <a:ext cx="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4677480" y="2924280"/>
            <a:ext cx="2570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Proportion of twee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mentioning keywo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7" name="Picture 4" descr="chile"/>
          <p:cNvPicPr/>
          <p:nvPr/>
        </p:nvPicPr>
        <p:blipFill>
          <a:blip r:embed="rId1"/>
          <a:stretch/>
        </p:blipFill>
        <p:spPr>
          <a:xfrm>
            <a:off x="-252360" y="488880"/>
            <a:ext cx="9396360" cy="63691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39640" y="765000"/>
            <a:ext cx="2016360" cy="649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Box 1"/>
          <p:cNvSpPr/>
          <p:nvPr/>
        </p:nvSpPr>
        <p:spPr>
          <a:xfrm rot="16200000">
            <a:off x="-965160" y="178992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atching po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TextBox 2"/>
          <p:cNvSpPr/>
          <p:nvPr/>
        </p:nvSpPr>
        <p:spPr>
          <a:xfrm rot="16200000">
            <a:off x="-948960" y="47329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entiment strengt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TextBox 3"/>
          <p:cNvSpPr/>
          <p:nvPr/>
        </p:nvSpPr>
        <p:spPr>
          <a:xfrm rot="16200000">
            <a:off x="-169560" y="61203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Tahoma"/>
              </a:rPr>
              <a:t>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traight Connector 7"/>
          <p:cNvSpPr/>
          <p:nvPr/>
        </p:nvSpPr>
        <p:spPr>
          <a:xfrm>
            <a:off x="395280" y="6093000"/>
            <a:ext cx="7993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762480" y="4149720"/>
            <a:ext cx="51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crease in –ve sentiment streng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>
            <a:off x="5579640" y="4606920"/>
            <a:ext cx="1080" cy="767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335" name="Text Box 13"/>
          <p:cNvSpPr/>
          <p:nvPr/>
        </p:nvSpPr>
        <p:spPr>
          <a:xfrm>
            <a:off x="-11160" y="342900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-11160" y="655308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961800" y="335772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746160" y="655308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8048520" y="335772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8048520" y="655308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-252360" y="3716280"/>
            <a:ext cx="9396360" cy="247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-252360" y="404640"/>
            <a:ext cx="9396360" cy="247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6769080" y="3778200"/>
            <a:ext cx="2229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a1502"/>
                </a:solidFill>
                <a:latin typeface="Tahoma"/>
              </a:rPr>
              <a:t>Av. +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a1502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0408"/>
                </a:solidFill>
                <a:latin typeface="Tahoma"/>
              </a:rPr>
              <a:t>Av. -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0408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6171480" y="768240"/>
            <a:ext cx="2549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Proportion of twee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mentioning Chi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7" name="Picture 4" descr="h oscar"/>
          <p:cNvPicPr/>
          <p:nvPr/>
        </p:nvPicPr>
        <p:blipFill>
          <a:blip r:embed="rId1"/>
          <a:stretch/>
        </p:blipFill>
        <p:spPr>
          <a:xfrm>
            <a:off x="0" y="38160"/>
            <a:ext cx="9721800" cy="68198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468360" y="333360"/>
            <a:ext cx="2016000" cy="649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#osca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 rot="16200000">
            <a:off x="-1131120" y="14835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% matching po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TextBox 8"/>
          <p:cNvSpPr/>
          <p:nvPr/>
        </p:nvSpPr>
        <p:spPr>
          <a:xfrm rot="16200000">
            <a:off x="-960120" y="46710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entiment strengt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TextBox 9"/>
          <p:cNvSpPr/>
          <p:nvPr/>
        </p:nvSpPr>
        <p:spPr>
          <a:xfrm rot="16200000">
            <a:off x="-180720" y="60591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Tahoma"/>
              </a:rPr>
              <a:t>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traight Connector 10"/>
          <p:cNvSpPr/>
          <p:nvPr/>
        </p:nvSpPr>
        <p:spPr>
          <a:xfrm>
            <a:off x="395280" y="6093000"/>
            <a:ext cx="8569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803520" y="414972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crease in 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–ve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ntiment streng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54" name="Straight Arrow Connector 13"/>
          <p:cNvCxnSpPr/>
          <p:nvPr/>
        </p:nvCxnSpPr>
        <p:spPr>
          <a:xfrm>
            <a:off x="5796000" y="4508280"/>
            <a:ext cx="2448720" cy="9421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355" name="Text Box 13"/>
          <p:cNvSpPr/>
          <p:nvPr/>
        </p:nvSpPr>
        <p:spPr>
          <a:xfrm>
            <a:off x="3961800" y="314172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3746160" y="655308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-11160" y="321300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-11160" y="655308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8048520" y="314172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8048520" y="655308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0" y="3500280"/>
            <a:ext cx="9396360" cy="247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Rectangle 20"/>
          <p:cNvSpPr/>
          <p:nvPr/>
        </p:nvSpPr>
        <p:spPr>
          <a:xfrm>
            <a:off x="-252360" y="0"/>
            <a:ext cx="9396360" cy="247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7272360" y="3573360"/>
            <a:ext cx="2229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a1502"/>
                </a:solidFill>
                <a:latin typeface="Tahoma"/>
              </a:rPr>
              <a:t>Av. +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a1502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0408"/>
                </a:solidFill>
                <a:latin typeface="Tahoma"/>
              </a:rPr>
              <a:t>Av. -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0408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5250600" y="476280"/>
            <a:ext cx="2792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Proportion of twee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mentioning the Osca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and spik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alysis of top 30 spiking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rong evidence (p=0.001) tha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higher volume hours have stronger negative sentiment than lower volume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Insufficient evidenc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p=0.014) that higher volume hours have different positive sentiment strength than lower volume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=&gt; Spikes are typified by increases in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negativ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Picture 4" descr="bieber"/>
          <p:cNvPicPr/>
          <p:nvPr/>
        </p:nvPicPr>
        <p:blipFill>
          <a:blip r:embed="rId1"/>
          <a:stretch/>
        </p:blipFill>
        <p:spPr>
          <a:xfrm>
            <a:off x="0" y="0"/>
            <a:ext cx="10125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"/>
          <p:cNvSpPr/>
          <p:nvPr/>
        </p:nvSpPr>
        <p:spPr>
          <a:xfrm>
            <a:off x="2806560" y="3997440"/>
            <a:ext cx="48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But there is plenty of posi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if you know where to look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7934400" y="314172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8048520" y="6453360"/>
            <a:ext cx="11181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Mar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961800" y="314172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177800" y="655308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Date and ti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-11160" y="314172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-11160" y="6553080"/>
            <a:ext cx="108612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9 Feb 201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3500280"/>
            <a:ext cx="9901080" cy="247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0" y="-123840"/>
            <a:ext cx="9396360" cy="31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900000" y="333360"/>
            <a:ext cx="2016360" cy="649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ieb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870840" y="333360"/>
            <a:ext cx="2549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Proportion of twee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mentioning Bieb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7848360" y="3573360"/>
            <a:ext cx="2229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a1502"/>
                </a:solidFill>
                <a:latin typeface="Tahoma"/>
              </a:rPr>
              <a:t>Av. +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a1502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0408"/>
                </a:solidFill>
                <a:latin typeface="Tahoma"/>
              </a:rPr>
              <a:t>Av. -ve sent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0408"/>
                </a:solidFill>
                <a:latin typeface="Tahoma"/>
              </a:rPr>
              <a:t>Just subj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YouTube Video com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hort text messages left for a video by view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p to 1000 per video accessible via the YouTube AP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good source of social web text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4"/>
          <a:stretch/>
        </p:blipFill>
        <p:spPr>
          <a:xfrm>
            <a:off x="5769000" y="5229360"/>
            <a:ext cx="3375000" cy="10792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-140040" y="6400800"/>
            <a:ext cx="53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Mike Thelwall Pardeep Sud Farida Vis (submitted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Commenting on YouTube Videos: From Guatemalan Rock to El Big Bang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Strength Detection with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SentiStrengt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tect positive and negative sentimen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strength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short informal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evelop workarounds for lack of standard grammar and spell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arness emotion expression forms unique to MySpace or CMC (e.g., :-) or haaappppyyy!!!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lassify simultaneously as positive 1-5 AND negative 1-5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pply to MySpace comments and social iss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849240" y="6127920"/>
            <a:ext cx="750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Thelwall, M., Buckley, K., Paltoglou, G., Cai, D., &amp; Kappas, A. (2010)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Sentiment strength detection in short informal text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, 61(12), 2544-2558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2000" y="115920"/>
            <a:ext cx="856764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ntiment in YouTube com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1114560" y="631836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YouTube comments tend to be weakly posi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598320" y="1125360"/>
            <a:ext cx="8137800" cy="50547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"/>
          <p:cNvSpPr/>
          <p:nvPr/>
        </p:nvSpPr>
        <p:spPr>
          <a:xfrm>
            <a:off x="2796480" y="4606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2796480" y="299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2748960" y="1700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234120" y="3882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6288120" y="2162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6291360" y="1494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Straight Connector 3"/>
          <p:cNvSpPr/>
          <p:nvPr/>
        </p:nvSpPr>
        <p:spPr>
          <a:xfrm flipV="1">
            <a:off x="3780000" y="2781360"/>
            <a:ext cx="2016000" cy="1224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Straight Connector 5"/>
          <p:cNvSpPr/>
          <p:nvPr/>
        </p:nvSpPr>
        <p:spPr>
          <a:xfrm flipV="1">
            <a:off x="3780000" y="1955520"/>
            <a:ext cx="2016000" cy="4381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traight Connector 7"/>
          <p:cNvSpPr/>
          <p:nvPr/>
        </p:nvSpPr>
        <p:spPr>
          <a:xfrm>
            <a:off x="3780000" y="1494000"/>
            <a:ext cx="2016000" cy="63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rends in YouTube comment senti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+ve and –ve sentiment strengths negatively correlated for videos (Spearman’s rho -0.213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# comments on a video correlates with –ve sentiment strength (Spearman’s rho 0.242, p=0.000) and negatively correlates with +ve sentiment strength (Spearman’s rho -0.113) – </a:t>
            </a: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negativity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drives commenting even though it is rar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Qualitative: Big debates over relig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 discussion about aging rock stars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1" name="Picture 2" descr="C:\Documents and Settings\cm1993\Local Settings\Temporary Internet Files\Content.IE5\SGJA8B1M\MC900440679[1].png"/>
          <p:cNvPicPr/>
          <p:nvPr/>
        </p:nvPicPr>
        <p:blipFill>
          <a:blip r:embed="rId4"/>
          <a:stretch/>
        </p:blipFill>
        <p:spPr>
          <a:xfrm>
            <a:off x="7451640" y="5229360"/>
            <a:ext cx="151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utomatic classification of sentiment strength is possible for the social web with SentiStrength – even unsupervis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t good for longer, political message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Hard to get accuracy much over 60%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an identify trends through automatic analysis of sentiment in millions of social web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ptional Task: Test SentiStrength online at sentistrength.wlv.ac.uk and find texts in English/Russian that it works badly f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ptional Task : Follow the instructions on the web site to download and try out the free Windows version of SentiStrength or the Java version at http://sentistrength.wlv.ac.uk/SentiStrengthCom.jar - for educational use 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lwall, M., Buckley, K., &amp; Paltoglou, G. (2012). Sentiment Strength Detection for the Social Web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63(1), 163-173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lwall, M., Buckley, K., Paltoglou, G., Cai, D., &amp; Kappas, A. (2010). Sentiment strength detection in short informal text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61(12), 2544–2558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lwall, M., Buckley, K., &amp; Paltoglou, G. (2011). Sentiment in Twitter events.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Journal of the American Society for Information Science and Technology,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61(12), 2544–2558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entiStrength 1 Algorithm - Co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1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ist of 890 positive and negative sentiment terms and strengths (1 to 5), e.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che = -2, dislike = -3, hate=-4, excruciating -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ncourage = 2, coolest = 3, lover = 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entiment strength is highest in sentence; or highest sentence if multiple sente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y legs ach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You are the cooles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 hate Paul but encourage hi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700360" y="1700280"/>
            <a:ext cx="93492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281400" y="126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419640" y="2924280"/>
            <a:ext cx="1296720" cy="9363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1476360" y="4076640"/>
            <a:ext cx="93492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3995640" y="4076640"/>
            <a:ext cx="1944720" cy="9367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209840" y="256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676520" y="4952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857480" y="501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856560" y="17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7539120" y="1844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1, 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223680" y="8366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ve, neg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539120" y="29242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3,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7466040" y="429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2, -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erm Strength Optimis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erm strengths (e.g., ache = -2) initially fixed by a human 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erm strengths optimised on training set with 10-fold cross-valid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djust term strengths to give best training set results then evaluate on test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.g., training set: “My legs </a:t>
            </a:r>
            <a:r>
              <a:rPr b="0" lang="en-GB" sz="2800" spc="-1" strike="noStrike" u="sng">
                <a:solidFill>
                  <a:srgbClr val="40458c"/>
                </a:solidFill>
                <a:uFillTx/>
                <a:latin typeface="Tahoma"/>
              </a:rPr>
              <a:t>ach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”: coder sentiment = 1,-3 =&gt; adjust sentiment of “ache” from -2 to -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 of sentiment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162864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sentiment word strength list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terrify=-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mis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” = +2, -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spelling correcte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nicce -&gt; n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booster word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lter streng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en-GB" sz="2400" spc="-1" strike="noStrike">
                <a:solidFill>
                  <a:srgbClr val="00b050"/>
                </a:solidFill>
                <a:latin typeface="Tahoma"/>
              </a:rPr>
              <a:t>very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 happ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negating word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lip emo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b050"/>
                </a:solidFill>
                <a:latin typeface="Tahoma"/>
              </a:rPr>
              <a:t>not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 n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repeated letter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oost sentiment/+v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niiiic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emoticon list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:) =+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exclamation mark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count as +2 unless –ve     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hi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repeated punctua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oosts sentimen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good!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negative emotion ignored in questions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b050"/>
                </a:solidFill>
                <a:latin typeface="Tahoma"/>
              </a:rPr>
              <a:t>u h8 m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peri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velopment data = 2600 MySpace comments coded by 1 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est data = 1041 MySpace comments coded by 3 independent co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parison against a range of standard machine learning algorith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eatures: Unigrams, bigrams, trigrams, punctuation, emotic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5" descr="j0305257"/>
          <p:cNvPicPr/>
          <p:nvPr/>
        </p:nvPicPr>
        <p:blipFill>
          <a:blip r:embed="rId4"/>
          <a:stretch/>
        </p:blipFill>
        <p:spPr>
          <a:xfrm>
            <a:off x="7596360" y="189000"/>
            <a:ext cx="1137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ample test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838080" y="1905120"/>
          <a:ext cx="7137360" cy="1854000"/>
        </p:xfrm>
        <a:graphic>
          <a:graphicData uri="http://schemas.openxmlformats.org/drawingml/2006/table">
            <a:tbl>
              <a:tblPr/>
              <a:tblGrid>
                <a:gridCol w="4702320"/>
                <a:gridCol w="1160280"/>
                <a:gridCol w="12747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 love music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hese are horrible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here are you going?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he film should be good but I am late for it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4"/>
          <p:cNvSpPr/>
          <p:nvPr/>
        </p:nvSpPr>
        <p:spPr>
          <a:xfrm>
            <a:off x="4699080" y="515772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uman coded val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255" name="Straight Arrow Connector 6"/>
          <p:cNvCxnSpPr/>
          <p:nvPr/>
        </p:nvCxnSpPr>
        <p:spPr>
          <a:xfrm flipV="1">
            <a:off x="6875280" y="3859920"/>
            <a:ext cx="1080" cy="10818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cxnSp>
        <p:nvCxnSpPr>
          <p:cNvPr id="256" name="Straight Arrow Connector 8"/>
          <p:cNvCxnSpPr/>
          <p:nvPr/>
        </p:nvCxnSpPr>
        <p:spPr>
          <a:xfrm flipV="1">
            <a:off x="5724000" y="3859920"/>
            <a:ext cx="1080" cy="10818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lwall, Michael (Prof)</cp:lastModifiedBy>
  <dcterms:modified xsi:type="dcterms:W3CDTF">2013-06-28T14:15:00Z</dcterms:modified>
  <cp:revision>300</cp:revision>
  <dc:subject/>
  <dc:title>Presentation</dc:title>
</cp:coreProperties>
</file>