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5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applause.wav" ContentType="audio/x-wav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2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5.jpeg" ContentType="image/jpeg"/>
  <Override PartName="/ppt/media/image20.wmf" ContentType="image/x-wmf"/>
  <Override PartName="/ppt/media/image14.wmf" ContentType="image/x-wm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5120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B2FA-904C-4E93-B53D-58AE26F46A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51200" cy="3487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8844-170D-4292-9467-5CF642CBA1CA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51200" cy="3487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4F74-CD55-4CA1-A5CD-5B2ABBE34B52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F6DC-57FC-45BC-A6FC-D81DE9F4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923-F539-4E94-84F6-63A55767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A784-B917-4690-BDD7-A405AF3C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16AC-2A47-41AD-BF79-6856F3F9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2C1F-5242-4900-BFF9-46E1FE91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886E-E283-4183-968E-C57EE3F1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8191-693E-40AD-A5C3-4E7BA858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6A59-94F7-4F2D-9236-22E4BF36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B3F6-D04C-4C36-B01D-2098A50D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EE83-62DC-4ED4-AE1A-92523A6C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2C65-40CB-4E28-9381-21E18E2E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5C1-1F6E-47F1-A92B-D0342F57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D94E-6F52-4AC7-BC85-EB689C59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E3EB-BFED-4A22-A4A4-182F06C0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D907-EDCD-48C7-8460-FF5DD7BE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D7CC-46F4-46F3-9236-D263614D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31D9-9FFE-42B6-A6F4-B64C6720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4F77-02B9-40D2-A73D-21521B96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4750-508D-4327-AD9B-115A213F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96F-7EE2-4B86-937E-DEEE27F3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FAE-2714-4EB2-B329-8E4EB1C5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DBE-D755-4F8C-952C-BF63B5A2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73A-C04A-4C77-B8A5-0130CACE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6DE-2715-4F75-AC50-85836937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F4D3-CE6F-4FF8-A1F8-62D99D752B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B09B-60FE-4ED2-A078-C3B6420993F6}" type="slidenum">
              <a:rPr b="0" lang="en-GB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oii.ox.ac.uk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cybermetrics.wlv.ac.uk/" TargetMode="External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http://www.ucm.es/" TargetMode="External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oii.ox.ac.uk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cybermetrics.wlv.ac.uk/" TargetMode="External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http://www.ucm.es/" TargetMode="External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oii.ox.ac.uk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cybermetrics.wlv.ac.uk/" TargetMode="External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http://www.ucm.es/" TargetMode="External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9400" y="32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entiment Analysis Tasks and Method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71280" y="3212640"/>
            <a:ext cx="689436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ike Thelwa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niversity of Wolverhampton, U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ession 2, Part 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Picture 6" descr="Oxford Internet Institute, University of Oxford"/>
          <p:cNvPicPr/>
          <p:nvPr/>
        </p:nvPicPr>
        <p:blipFill>
          <a:blip r:embed="rId1"/>
          <a:stretch/>
        </p:blipFill>
        <p:spPr>
          <a:xfrm>
            <a:off x="826920" y="333360"/>
            <a:ext cx="1285920" cy="43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OII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333360"/>
            <a:ext cx="571320" cy="438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[Åbo Akademi University logo]"/>
          <p:cNvPicPr/>
          <p:nvPr/>
        </p:nvPicPr>
        <p:blipFill>
          <a:blip r:embed="rId4"/>
          <a:stretch/>
        </p:blipFill>
        <p:spPr>
          <a:xfrm>
            <a:off x="7236000" y="189000"/>
            <a:ext cx="1571400" cy="6872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1"/>
          <p:cNvSpPr/>
          <p:nvPr/>
        </p:nvSpPr>
        <p:spPr>
          <a:xfrm>
            <a:off x="7260120" y="90792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ahoma"/>
              </a:rPr>
              <a:t>Information Stud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12" descr="University of Wolverhampton - A Learning Environment for the 21st Century"/>
          <p:cNvPicPr/>
          <p:nvPr/>
        </p:nvPicPr>
        <p:blipFill>
          <a:blip r:embed="rId5"/>
          <a:stretch/>
        </p:blipFill>
        <p:spPr>
          <a:xfrm>
            <a:off x="6324480" y="6019920"/>
            <a:ext cx="2610000" cy="628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3" descr="Statistical Cybermetrics Research Grou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5715000"/>
            <a:ext cx="3381480" cy="1143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4" descr=""/>
          <p:cNvPicPr/>
          <p:nvPr/>
        </p:nvPicPr>
        <p:blipFill>
          <a:blip r:embed="rId8"/>
          <a:stretch/>
        </p:blipFill>
        <p:spPr>
          <a:xfrm>
            <a:off x="3419640" y="5661000"/>
            <a:ext cx="2339640" cy="1009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Universidad Complutense de Madrid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71960" y="166680"/>
            <a:ext cx="8478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ypes of machine learning algorithm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any generic and many highly tailored machine learning algorith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For text analysis there is an important distinction between typ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Linguistic – use grammatical and other knowledge about language to ‘understand’ the text analysed (e.g., SentiStrength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Non-linguistic – use brute force methods that do not incorporate linguistic knowledge (e.g., with feature vector input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Tahoma"/>
              </a:rPr>
              <a:t>Generic machine learning algorithm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Naïve Bayes – makes simple probability assump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Rule generators – e.g. finds simple rules like “If document contains “love” and doesn’t contain “hate” then classify it as positive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upport Vector Machines – very popu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any more, and each one has many variations and parameters </a:t>
            </a:r>
            <a:r>
              <a:rPr b="0" lang="en-GB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Linguistic algorith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ncorporate additional grammatical and other information about langua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end to be more accurate but take much more time to ru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xamples of additional powe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word ‘like’ can be positive (verb) or neutral (preposition) – linguistic techniques can disambiguate the two sens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words ‘hate’, and ‘hated’ have the same lexical root, and a similar meaning to ‘loathe’ and ‘loathed’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Linguistic knowledge of the possible meanings of words can give algorithms an advanta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E.g., sentiwordnet lists many classes of positive and negative word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nsupervised algorith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26560" y="155736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n algorithm is </a:t>
            </a:r>
            <a:r>
              <a:rPr b="0" i="1" lang="en-GB" sz="3200" spc="-1" strike="noStrike">
                <a:solidFill>
                  <a:srgbClr val="40458c"/>
                </a:solidFill>
                <a:latin typeface="Tahoma"/>
              </a:rPr>
              <a:t>supervised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if it requires a training st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n algorithm is </a:t>
            </a:r>
            <a:r>
              <a:rPr b="0" i="1" lang="en-GB" sz="3200" spc="-1" strike="noStrike">
                <a:solidFill>
                  <a:srgbClr val="40458c"/>
                </a:solidFill>
                <a:latin typeface="Tahoma"/>
              </a:rPr>
              <a:t>unsupervised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if it requires no train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n algorithm is semi-supervised if it has a limited training st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ll machine learning algorithms are supervised or semi-supervis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Linguistic algorithms can be unsupervised = no need for training da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re are several different sentiment analysis tasks and many different applications of sentiment analy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Machine learning is based upon algorithms that learn to solve classification or clustering problems from human-coded examp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ext must be converted into 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feature vectors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for generic algorith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Linguistic algorithms use knowledge of language to improve performance, but are slow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6984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Gold standards and feature sele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063440" y="3212640"/>
            <a:ext cx="689436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ike Thelwa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niversity of Wolverhampton, U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ession 2, Part 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9" name="Picture 6" descr="Oxford Internet Institute, University of Oxford"/>
          <p:cNvPicPr/>
          <p:nvPr/>
        </p:nvPicPr>
        <p:blipFill>
          <a:blip r:embed="rId1"/>
          <a:stretch/>
        </p:blipFill>
        <p:spPr>
          <a:xfrm>
            <a:off x="826920" y="333360"/>
            <a:ext cx="1285920" cy="438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OII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333360"/>
            <a:ext cx="571320" cy="438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[Åbo Akademi University logo]"/>
          <p:cNvPicPr/>
          <p:nvPr/>
        </p:nvPicPr>
        <p:blipFill>
          <a:blip r:embed="rId4"/>
          <a:stretch/>
        </p:blipFill>
        <p:spPr>
          <a:xfrm>
            <a:off x="7236000" y="189000"/>
            <a:ext cx="1571400" cy="6872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1"/>
          <p:cNvSpPr/>
          <p:nvPr/>
        </p:nvSpPr>
        <p:spPr>
          <a:xfrm>
            <a:off x="7260120" y="90792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ahoma"/>
              </a:rPr>
              <a:t>Information Stud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3" name="Picture 12" descr="University of Wolverhampton - A Learning Environment for the 21st Century"/>
          <p:cNvPicPr/>
          <p:nvPr/>
        </p:nvPicPr>
        <p:blipFill>
          <a:blip r:embed="rId5"/>
          <a:stretch/>
        </p:blipFill>
        <p:spPr>
          <a:xfrm>
            <a:off x="6324480" y="6019920"/>
            <a:ext cx="2610000" cy="6285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3" descr="Statistical Cybermetrics Research Grou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5715000"/>
            <a:ext cx="3381480" cy="1143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"/>
          <p:cNvPicPr/>
          <p:nvPr/>
        </p:nvPicPr>
        <p:blipFill>
          <a:blip r:embed="rId8"/>
          <a:stretch/>
        </p:blipFill>
        <p:spPr>
          <a:xfrm>
            <a:off x="3419640" y="5661000"/>
            <a:ext cx="2339640" cy="1009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2" descr="Universidad Complutense de Madrid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71960" y="166680"/>
            <a:ext cx="8478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i="1" lang="en-GB" sz="3200" spc="-1" strike="noStrike">
                <a:solidFill>
                  <a:srgbClr val="40458c"/>
                </a:solidFill>
                <a:latin typeface="Tahoma"/>
              </a:rPr>
              <a:t>gold standard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is a large set of texts with correct sentiment sco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t is used f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raining machine learning algorith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esting all sentiment analysis algorith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Normally created by huma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Time-consuming to crea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1. Creating a gold standar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9" name="Picture 5" descr="C:\Documents and Settings\cm1993\Local Settings\Temporary Internet Files\Content.IE5\H1KQO3DR\MC900433919[1].png"/>
          <p:cNvPicPr/>
          <p:nvPr/>
        </p:nvPicPr>
        <p:blipFill>
          <a:blip r:embed="rId5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Extract from gold standar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55640" y="1628640"/>
          <a:ext cx="8064360" cy="4565880"/>
        </p:xfrm>
        <a:graphic>
          <a:graphicData uri="http://schemas.openxmlformats.org/drawingml/2006/table">
            <a:tbl>
              <a:tblPr/>
              <a:tblGrid>
                <a:gridCol w="1370160"/>
                <a:gridCol w="1672920"/>
                <a:gridCol w="5021280"/>
              </a:tblGrid>
              <a:tr h="488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ositive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1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egative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1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ext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1eb"/>
                    </a:solidFill>
                  </a:tcPr>
                </a:tc>
              </a:tr>
              <a:tr h="862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2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Hey witch what have you been up to?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862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1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1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OMG my son has the same birthday as you! LOL!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1eb"/>
                    </a:solidFill>
                  </a:tcPr>
                </a:tc>
              </a:tr>
              <a:tr h="1289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4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 regret giving my old car up. I couldn’t afford four new tyres.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88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1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1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Hey Kevin, hope you are good and well.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1eb"/>
                    </a:solidFill>
                  </a:tcPr>
                </a:tc>
              </a:tr>
            </a:tbl>
          </a:graphicData>
        </a:graphic>
      </p:graphicFrame>
      <p:pic>
        <p:nvPicPr>
          <p:cNvPr id="292" name="Picture 2" descr="C:\Documents and Settings\cm1993\Local Settings\Temporary Internet Files\Content.IE5\AFWPYX4X\MC900155394[1].wmf"/>
          <p:cNvPicPr/>
          <p:nvPr/>
        </p:nvPicPr>
        <p:blipFill>
          <a:blip r:embed="rId1"/>
          <a:stretch/>
        </p:blipFill>
        <p:spPr>
          <a:xfrm>
            <a:off x="7356600" y="11592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293" name="TextBox 2"/>
          <p:cNvSpPr/>
          <p:nvPr/>
        </p:nvSpPr>
        <p:spPr>
          <a:xfrm>
            <a:off x="450360" y="6256440"/>
            <a:ext cx="84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Tahoma"/>
              </a:rPr>
              <a:t>-1/1 = neutral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; 5 = strongly positive; </a:t>
            </a:r>
            <a:r>
              <a:rPr b="0" lang="en-GB" sz="2400" spc="-1" strike="noStrike">
                <a:solidFill>
                  <a:srgbClr val="002060"/>
                </a:solidFill>
                <a:latin typeface="Tahoma"/>
              </a:rPr>
              <a:t>-5 = strongly negativ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Gold standard hi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Need random sample of 1000+ tex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ded by 3+ independent coders, if possi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Use Krippendorff’s alpha to assess agree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ome disagreement is norm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Use code book to guide cod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Need to pilot te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Need to select reliable cod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Or use Amazon’s Mechanical Turk?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But results seem to be very poor without careful coder sel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6" name="Picture 5" descr="C:\Documents and Settings\cm1993\Local Settings\Temporary Internet Files\Content.IE5\H1KQO3DR\MC900433919[1].png"/>
          <p:cNvPicPr/>
          <p:nvPr/>
        </p:nvPicPr>
        <p:blipFill>
          <a:blip r:embed="rId3"/>
          <a:stretch/>
        </p:blipFill>
        <p:spPr>
          <a:xfrm>
            <a:off x="7020000" y="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Test data: Inter-coder agreemen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219640" y="1916280"/>
          <a:ext cx="3184560" cy="4114800"/>
        </p:xfrm>
        <a:graphic>
          <a:graphicData uri="http://schemas.openxmlformats.org/drawingml/2006/table">
            <a:tbl>
              <a:tblPr/>
              <a:tblGrid>
                <a:gridCol w="1484280"/>
                <a:gridCol w="812880"/>
                <a:gridCol w="887400"/>
              </a:tblGrid>
              <a:tr h="153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omparison for 1041 MySpace text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+v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gree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ent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v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gree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ent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oder 1 vs. 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1.0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7.3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oder 1 vs. 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5.7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6.3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oder 2 vs. 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1.4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8.2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Text Box 252"/>
          <p:cNvSpPr/>
          <p:nvPr/>
        </p:nvSpPr>
        <p:spPr>
          <a:xfrm>
            <a:off x="642600" y="1628640"/>
            <a:ext cx="4120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est data = 1041 MySp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mments coded by 3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ndependent cod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Krippendorff’s inter-cod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weighted alpha = 0.574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for positive and 0.563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for negative senti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is statistic measures how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much the coders agre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above chance agreement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ypical commercial sentiment analysis/opinion mining 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etermine overall opinions about a </a:t>
            </a:r>
            <a:r>
              <a:rPr b="1" i="1" lang="en-GB" sz="3200" spc="-1" strike="noStrike">
                <a:solidFill>
                  <a:srgbClr val="40458c"/>
                </a:solidFill>
                <a:latin typeface="Tahoma"/>
              </a:rPr>
              <a:t>produc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.g., the M90 phone is excellen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.g., the M90 is expensive but excellen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etermine opinions about </a:t>
            </a:r>
            <a:r>
              <a:rPr b="1" i="1" lang="en-GB" sz="3200" spc="-1" strike="noStrike">
                <a:solidFill>
                  <a:srgbClr val="40458c"/>
                </a:solidFill>
                <a:latin typeface="Tahoma"/>
              </a:rPr>
              <a:t>parts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of a produc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.g., the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screen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of the M90 is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oo small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but its </a:t>
            </a:r>
            <a:r>
              <a:rPr b="0" lang="en-GB" sz="2800" spc="-1" strike="noStrike">
                <a:solidFill>
                  <a:srgbClr val="92d050"/>
                </a:solidFill>
                <a:latin typeface="Tahoma"/>
              </a:rPr>
              <a:t>weight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s very </a:t>
            </a:r>
            <a:r>
              <a:rPr b="0" lang="en-GB" sz="2800" spc="-1" strike="noStrike">
                <a:solidFill>
                  <a:srgbClr val="92d050"/>
                </a:solidFill>
                <a:latin typeface="Tahoma"/>
              </a:rPr>
              <a:t>light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7" name="Picture 2" descr="C:\Users\Mike\AppData\Local\Microsoft\Windows\Temporary Internet Files\Content.IE5\5GFALYVR\MC900441340[1].png"/>
          <p:cNvPicPr/>
          <p:nvPr/>
        </p:nvPicPr>
        <p:blipFill>
          <a:blip r:embed="rId3"/>
          <a:stretch/>
        </p:blipFill>
        <p:spPr>
          <a:xfrm>
            <a:off x="7667640" y="184464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lternative gold standar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00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Ratings coded by text autho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.g., Movie reviews with overall movie ratings 1 star (terrible) – to 5 stars (excellen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Ratings inferred from text fea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.g., smiley at end indicates positive :) or negative :(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Not reliable? –smileys may mark sarcasm, irony. e.g., I hate you :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utomatic methods are cheap and can generate large training data – when availab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2" name="Picture 5" descr="C:\Documents and Settings\cm1993\Local Settings\Temporary Internet Files\Content.IE5\H1KQO3DR\MC900433919[1].png"/>
          <p:cNvPicPr/>
          <p:nvPr/>
        </p:nvPicPr>
        <p:blipFill>
          <a:blip r:embed="rId4"/>
          <a:stretch/>
        </p:blipFill>
        <p:spPr>
          <a:xfrm>
            <a:off x="7753320" y="0"/>
            <a:ext cx="981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2. Feature sele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achine learning algorithms take a set of </a:t>
            </a:r>
            <a:r>
              <a:rPr b="0" i="1" lang="en-GB" sz="3200" spc="-1" strike="noStrike">
                <a:solidFill>
                  <a:srgbClr val="40458c"/>
                </a:solidFill>
                <a:latin typeface="Tahoma"/>
              </a:rPr>
              <a:t>features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as inpu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Features are things extracted from tex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ocuments are converted into </a:t>
            </a:r>
            <a:r>
              <a:rPr b="0" i="1" lang="en-GB" sz="3200" spc="-1" strike="noStrike">
                <a:solidFill>
                  <a:srgbClr val="40458c"/>
                </a:solidFill>
                <a:latin typeface="Tahoma"/>
              </a:rPr>
              <a:t>feature vectors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for process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Document"/>
          <p:cNvSpPr/>
          <p:nvPr/>
        </p:nvSpPr>
        <p:spPr>
          <a:xfrm>
            <a:off x="971640" y="4724280"/>
            <a:ext cx="1008000" cy="1513080"/>
          </a:xfrm>
          <a:custGeom>
            <a:avLst/>
            <a:gdLst>
              <a:gd name="textAreaLeft" fmla="*/ 45360 w 1008000"/>
              <a:gd name="textAreaRight" fmla="*/ 962640 w 1008000"/>
              <a:gd name="textAreaTop" fmla="*/ 57240 h 1513080"/>
              <a:gd name="textAreaBottom" fmla="*/ 1150920 h 151308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7812000" y="4724280"/>
          <a:ext cx="528840" cy="1854360"/>
        </p:xfrm>
        <a:graphic>
          <a:graphicData uri="http://schemas.openxmlformats.org/drawingml/2006/table">
            <a:tbl>
              <a:tblPr/>
              <a:tblGrid>
                <a:gridCol w="528840"/>
              </a:tblGrid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</a:tbl>
          </a:graphicData>
        </a:graphic>
      </p:graphicFrame>
      <p:sp>
        <p:nvSpPr>
          <p:cNvPr id="307" name="Straight Connector 6"/>
          <p:cNvSpPr/>
          <p:nvPr/>
        </p:nvSpPr>
        <p:spPr>
          <a:xfrm>
            <a:off x="7812000" y="4724280"/>
            <a:ext cx="0" cy="18003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Straight Connector 9"/>
          <p:cNvSpPr/>
          <p:nvPr/>
        </p:nvSpPr>
        <p:spPr>
          <a:xfrm>
            <a:off x="8317080" y="4724280"/>
            <a:ext cx="0" cy="18003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cxnSp>
        <p:nvCxnSpPr>
          <p:cNvPr id="309" name="Straight Arrow Connector 11"/>
          <p:cNvCxnSpPr/>
          <p:nvPr/>
        </p:nvCxnSpPr>
        <p:spPr>
          <a:xfrm>
            <a:off x="2410920" y="5481360"/>
            <a:ext cx="5256720" cy="10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arrow" w="med"/>
          </a:ln>
        </p:spPr>
      </p:cxnSp>
      <p:pic>
        <p:nvPicPr>
          <p:cNvPr id="310" name="Picture 4" descr="MPj03142610000[1]"/>
          <p:cNvPicPr/>
          <p:nvPr/>
        </p:nvPicPr>
        <p:blipFill>
          <a:blip r:embed="rId4"/>
          <a:stretch/>
        </p:blipFill>
        <p:spPr>
          <a:xfrm>
            <a:off x="7662960" y="189000"/>
            <a:ext cx="1085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ypes of fea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Features can b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ndividual words (unigrams = bag of words), pairs of words (bigrams), word triples (trigrams) etc.(n-gram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Words can be stemmed or part-of-speech tagged (e.g., verb, noun, noun phras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eta-information, such as the document author, document length, author characteristic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Picture 4" descr="MPj03142610000[1]"/>
          <p:cNvPicPr/>
          <p:nvPr/>
        </p:nvPicPr>
        <p:blipFill>
          <a:blip r:embed="rId3"/>
          <a:stretch/>
        </p:blipFill>
        <p:spPr>
          <a:xfrm>
            <a:off x="7596360" y="333360"/>
            <a:ext cx="1085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Feature types: unigra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26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Features: i, hate, anna, love, yo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lphabetical: anna, hate, i, love, yo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1 feature vector: (1,1,1,0,0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2 feature vector: (0,0,1,1,1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TextBox 3"/>
          <p:cNvSpPr/>
          <p:nvPr/>
        </p:nvSpPr>
        <p:spPr>
          <a:xfrm>
            <a:off x="6948360" y="6165720"/>
            <a:ext cx="1944720" cy="459720"/>
          </a:xfrm>
          <a:prstGeom prst="rect">
            <a:avLst/>
          </a:prstGeom>
          <a:gradFill rotWithShape="0">
            <a:gsLst>
              <a:gs pos="0">
                <a:srgbClr val="fff0a8"/>
              </a:gs>
              <a:gs pos="100000">
                <a:srgbClr val="fff9e4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 love yo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2916360" y="6165720"/>
            <a:ext cx="1942920" cy="459720"/>
          </a:xfrm>
          <a:prstGeom prst="rect">
            <a:avLst/>
          </a:prstGeom>
          <a:gradFill rotWithShape="0">
            <a:gsLst>
              <a:gs pos="0">
                <a:srgbClr val="fff0a8"/>
              </a:gs>
              <a:gs pos="100000">
                <a:srgbClr val="fff9e4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 hate An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2369160" y="61722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TextBox 6"/>
          <p:cNvSpPr/>
          <p:nvPr/>
        </p:nvSpPr>
        <p:spPr>
          <a:xfrm>
            <a:off x="6390360" y="61722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4788000" y="3141720"/>
            <a:ext cx="1611360" cy="503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4788000" y="3789360"/>
            <a:ext cx="1611360" cy="5047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2" name="Picture 4" descr="MPj03142610000[1]"/>
          <p:cNvPicPr/>
          <p:nvPr/>
        </p:nvPicPr>
        <p:blipFill>
          <a:blip r:embed="rId6"/>
          <a:stretch/>
        </p:blipFill>
        <p:spPr>
          <a:xfrm>
            <a:off x="7742160" y="115920"/>
            <a:ext cx="1085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Feature types: bigra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Features: i hate, hate anna, i love, love yo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lphabetical: hate anna, i hate, i love, love yo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1 feature vector: (1,1,0,0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2 feature vector: (0,0,1,1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6948360" y="6165720"/>
            <a:ext cx="1944720" cy="459720"/>
          </a:xfrm>
          <a:prstGeom prst="rect">
            <a:avLst/>
          </a:prstGeom>
          <a:gradFill rotWithShape="0">
            <a:gsLst>
              <a:gs pos="0">
                <a:srgbClr val="fff0a8"/>
              </a:gs>
              <a:gs pos="100000">
                <a:srgbClr val="fff9e4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 love yo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2916360" y="6165720"/>
            <a:ext cx="1942920" cy="459720"/>
          </a:xfrm>
          <a:prstGeom prst="rect">
            <a:avLst/>
          </a:prstGeom>
          <a:gradFill rotWithShape="0">
            <a:gsLst>
              <a:gs pos="0">
                <a:srgbClr val="fff0a8"/>
              </a:gs>
              <a:gs pos="100000">
                <a:srgbClr val="fff9e4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 hate An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TextBox 5"/>
          <p:cNvSpPr/>
          <p:nvPr/>
        </p:nvSpPr>
        <p:spPr>
          <a:xfrm>
            <a:off x="2369160" y="61722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TextBox 6"/>
          <p:cNvSpPr/>
          <p:nvPr/>
        </p:nvSpPr>
        <p:spPr>
          <a:xfrm>
            <a:off x="6390360" y="61722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4521240" y="4149720"/>
            <a:ext cx="1863720" cy="503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4500720" y="4724280"/>
            <a:ext cx="1863720" cy="5050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Feature types: trigra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Features: i hate anna, i love yo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lphabetical: i hate anna, i love you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1 feature vector: (1,0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2 feature vector: (0,1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TextBox 3"/>
          <p:cNvSpPr/>
          <p:nvPr/>
        </p:nvSpPr>
        <p:spPr>
          <a:xfrm>
            <a:off x="6948360" y="6165720"/>
            <a:ext cx="1944720" cy="459720"/>
          </a:xfrm>
          <a:prstGeom prst="rect">
            <a:avLst/>
          </a:prstGeom>
          <a:gradFill rotWithShape="0">
            <a:gsLst>
              <a:gs pos="0">
                <a:srgbClr val="fff0a8"/>
              </a:gs>
              <a:gs pos="100000">
                <a:srgbClr val="fff9e4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 love yo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2916360" y="6165720"/>
            <a:ext cx="1942920" cy="459720"/>
          </a:xfrm>
          <a:prstGeom prst="rect">
            <a:avLst/>
          </a:prstGeom>
          <a:gradFill rotWithShape="0">
            <a:gsLst>
              <a:gs pos="0">
                <a:srgbClr val="fff0a8"/>
              </a:gs>
              <a:gs pos="100000">
                <a:srgbClr val="fff9e4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 hate An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TextBox 5"/>
          <p:cNvSpPr/>
          <p:nvPr/>
        </p:nvSpPr>
        <p:spPr>
          <a:xfrm>
            <a:off x="2369160" y="61722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6390360" y="61722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2932200" y="1989000"/>
            <a:ext cx="4232160" cy="503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3564000" y="2549520"/>
            <a:ext cx="4248000" cy="5047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4537080" y="3206880"/>
            <a:ext cx="1862280" cy="503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4521240" y="3710160"/>
            <a:ext cx="1861920" cy="5047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Feature types: 1-3gra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lphabetical Features: anna, hate, hate anna, i, i hate, i hate anna, i love, i love you, love, love you, yo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1 feature vector: (1,1,1,1,1,1,0,0,0,0,0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2 feature vector: (0,0,0,1,0,0,1,1,1,1,1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6948360" y="6165720"/>
            <a:ext cx="1944720" cy="459720"/>
          </a:xfrm>
          <a:prstGeom prst="rect">
            <a:avLst/>
          </a:prstGeom>
          <a:gradFill rotWithShape="0">
            <a:gsLst>
              <a:gs pos="0">
                <a:srgbClr val="fff0a8"/>
              </a:gs>
              <a:gs pos="100000">
                <a:srgbClr val="fff9e4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 love yo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2916360" y="6165720"/>
            <a:ext cx="1942920" cy="459720"/>
          </a:xfrm>
          <a:prstGeom prst="rect">
            <a:avLst/>
          </a:prstGeom>
          <a:gradFill rotWithShape="0">
            <a:gsLst>
              <a:gs pos="0">
                <a:srgbClr val="fff0a8"/>
              </a:gs>
              <a:gs pos="100000">
                <a:srgbClr val="fff9e4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 hate An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2369160" y="61722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TextBox 6"/>
          <p:cNvSpPr/>
          <p:nvPr/>
        </p:nvSpPr>
        <p:spPr>
          <a:xfrm>
            <a:off x="6390360" y="61722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1187280" y="2349360"/>
            <a:ext cx="7272360" cy="1055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1265400" y="3933720"/>
            <a:ext cx="4066920" cy="57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1190520" y="5013360"/>
            <a:ext cx="4068720" cy="5763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RFF files </a:t>
            </a:r>
            <a:r>
              <a:rPr b="0" i="1" lang="en-GB" sz="4400" spc="-1" strike="noStrike">
                <a:solidFill>
                  <a:srgbClr val="660066"/>
                </a:solidFill>
                <a:latin typeface="Tahoma"/>
              </a:rPr>
              <a:t>Attribute-Relation File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RFF file format is for machine learn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Lists names and values of fea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ahoma"/>
              </a:rPr>
              <a:t>@attribute Polarity{-1,1}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ahoma"/>
              </a:rPr>
              <a:t>@attribute Words numer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ahoma"/>
              </a:rPr>
              <a:t>@attribute love numer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ahoma"/>
              </a:rPr>
              <a:t>@attribute hate numer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ahoma"/>
              </a:rPr>
              <a:t>@attribute you numer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ahoma"/>
              </a:rPr>
              <a:t>@da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660066"/>
                </a:solidFill>
                <a:latin typeface="Tahoma"/>
              </a:rPr>
              <a:t>1, 2, 1, 0, 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ahoma"/>
              </a:rPr>
              <a:t>-1, 2, 0, 1, 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2" name="Picture 4" descr="MPj03142610000[1]"/>
          <p:cNvPicPr/>
          <p:nvPr/>
        </p:nvPicPr>
        <p:blipFill>
          <a:blip r:embed="rId3"/>
          <a:stretch/>
        </p:blipFill>
        <p:spPr>
          <a:xfrm>
            <a:off x="7923240" y="5157720"/>
            <a:ext cx="1085760" cy="13683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6"/>
          <p:cNvSpPr/>
          <p:nvPr/>
        </p:nvSpPr>
        <p:spPr>
          <a:xfrm>
            <a:off x="5428440" y="407664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What does this mean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541440" y="18900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Task: make ARFF file for trigram da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@attribute Pos {-1,1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@attribute Words numeri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@attribute i_hate_anna numeri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@attribute i_love_you numeri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@da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-1, 3, 1, 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1, 3, 0, 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566640" y="1628640"/>
            <a:ext cx="7893000" cy="46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nsw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6984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entiment analysis Eval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063440" y="3212640"/>
            <a:ext cx="689436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ike Thelwa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niversity of Wolverhampton, U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ession 2, Part 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8" name="Picture 6" descr="Oxford Internet Institute, University of Oxford"/>
          <p:cNvPicPr/>
          <p:nvPr/>
        </p:nvPicPr>
        <p:blipFill>
          <a:blip r:embed="rId1"/>
          <a:stretch/>
        </p:blipFill>
        <p:spPr>
          <a:xfrm>
            <a:off x="826920" y="333360"/>
            <a:ext cx="1285920" cy="4381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OII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333360"/>
            <a:ext cx="571320" cy="438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[Åbo Akademi University logo]"/>
          <p:cNvPicPr/>
          <p:nvPr/>
        </p:nvPicPr>
        <p:blipFill>
          <a:blip r:embed="rId4"/>
          <a:stretch/>
        </p:blipFill>
        <p:spPr>
          <a:xfrm>
            <a:off x="7236000" y="189000"/>
            <a:ext cx="1571400" cy="68724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1"/>
          <p:cNvSpPr/>
          <p:nvPr/>
        </p:nvSpPr>
        <p:spPr>
          <a:xfrm>
            <a:off x="7260120" y="90792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ahoma"/>
              </a:rPr>
              <a:t>Information Stud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2" name="Picture 12" descr="University of Wolverhampton - A Learning Environment for the 21st Century"/>
          <p:cNvPicPr/>
          <p:nvPr/>
        </p:nvPicPr>
        <p:blipFill>
          <a:blip r:embed="rId5"/>
          <a:stretch/>
        </p:blipFill>
        <p:spPr>
          <a:xfrm>
            <a:off x="6324480" y="6019920"/>
            <a:ext cx="2610000" cy="628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3" descr="Statistical Cybermetrics Research Grou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5715000"/>
            <a:ext cx="3381480" cy="1143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4" descr=""/>
          <p:cNvPicPr/>
          <p:nvPr/>
        </p:nvPicPr>
        <p:blipFill>
          <a:blip r:embed="rId8"/>
          <a:stretch/>
        </p:blipFill>
        <p:spPr>
          <a:xfrm>
            <a:off x="3419640" y="5661000"/>
            <a:ext cx="2339640" cy="1009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Universidad Complutense de Madrid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71960" y="166680"/>
            <a:ext cx="8478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39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ypes of sentiment analysis </a:t>
            </a:r>
            <a:r>
              <a:rPr b="0" i="1" lang="en-GB" sz="4400" spc="-1" strike="noStrike">
                <a:solidFill>
                  <a:srgbClr val="660066"/>
                </a:solidFill>
                <a:latin typeface="Tahoma"/>
              </a:rPr>
              <a:t>task 1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: Subjectivity dete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etecting whether a text is opinionated/ subjective or neutral/ object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Binary decis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an use machine learn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oes not classify polar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Courier New"/>
                <a:ea typeface="Courier New"/>
              </a:rPr>
              <a:t>This phone is very cheap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Courier New"/>
                <a:ea typeface="Courier New"/>
              </a:rPr>
              <a:t>This phone costs 200 Yua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Courier New"/>
                <a:ea typeface="Courier New"/>
              </a:rPr>
              <a:t>I love the phon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0" name="Picture 2" descr="C:\Users\Mike\AppData\Local\Microsoft\Windows\Temporary Internet Files\Content.IE5\5GFALYVR\MC900441340[1].png"/>
          <p:cNvPicPr/>
          <p:nvPr/>
        </p:nvPicPr>
        <p:blipFill>
          <a:blip r:embed="rId5"/>
          <a:stretch/>
        </p:blipFill>
        <p:spPr>
          <a:xfrm>
            <a:off x="7667640" y="357336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Feature sele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ometimes machine learning algorithms work better if fed with only the 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best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featu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Feature selection is using a process to select the best featu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Normally those that 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discriminate best between classes – e.g., tend to occur more often in positive texts than in negative texts or more often in negative texts than in positive tex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value of each feature is estimated using a heuristic metric, such as Information Gain, Chi-Square or Log Likelihoo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Feature qua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The best features are those that most differentiate between positive and negative tex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xcellent” is a good feature if 90% of texts in which it is found are positiv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nd” is a bad feature if 50% of texts in which it is found are positiv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Frequent features are also more usefu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4102200" y="3573360"/>
            <a:ext cx="739800" cy="3603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3203640" y="4437000"/>
            <a:ext cx="739800" cy="3603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utomatic feature sele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Use a heuristic to rank features in terms of likely value for classif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.g., Information Gain is a mathematical measure of the extra </a:t>
            </a: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information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about classification </a:t>
            </a: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gain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d by including a fea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Select the top </a:t>
            </a:r>
            <a:r>
              <a:rPr b="0" i="1" lang="en-GB" sz="32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features, e.g., </a:t>
            </a:r>
            <a:r>
              <a:rPr b="0" i="1" lang="en-GB" sz="32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= 100, 1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n practice, experiment with different </a:t>
            </a:r>
            <a:r>
              <a:rPr b="0" i="1" lang="en-GB" sz="32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or use largest feasible </a:t>
            </a:r>
            <a:r>
              <a:rPr b="0" i="1" lang="en-GB" sz="3200" spc="-1" strike="noStrike">
                <a:solidFill>
                  <a:srgbClr val="40458c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imple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274840" y="1773360"/>
          <a:ext cx="4608720" cy="3708360"/>
        </p:xfrm>
        <a:graphic>
          <a:graphicData uri="http://schemas.openxmlformats.org/drawingml/2006/table">
            <a:tbl>
              <a:tblPr/>
              <a:tblGrid>
                <a:gridCol w="1944720"/>
                <a:gridCol w="2664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ormation Gai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 lov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8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s excellent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xcellent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islik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ot excellent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on’t really lik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s strong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nd it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he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</a:tbl>
          </a:graphicData>
        </a:graphic>
      </p:graphicFrame>
      <p:sp>
        <p:nvSpPr>
          <p:cNvPr id="376" name="TextBox 5"/>
          <p:cNvSpPr/>
          <p:nvPr/>
        </p:nvSpPr>
        <p:spPr>
          <a:xfrm>
            <a:off x="103680" y="5589720"/>
            <a:ext cx="88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What feature set size might give the best result for this dat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TextBox 6"/>
          <p:cNvSpPr/>
          <p:nvPr/>
        </p:nvSpPr>
        <p:spPr>
          <a:xfrm>
            <a:off x="1737000" y="6234120"/>
            <a:ext cx="59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Why is the IG value for “and it” not zer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39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Cross-valida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10-fold cross valida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tandard machine learning assessment techniqu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rain opinion mining algorithm on 90% of the da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est it on the remaining 1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Repeat the above 10 times for a different 10% each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verage the resul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0" name="Picture 4" descr="MPPH03899I0000[1]"/>
          <p:cNvPicPr/>
          <p:nvPr/>
        </p:nvPicPr>
        <p:blipFill>
          <a:blip r:embed="rId6"/>
          <a:stretch/>
        </p:blipFill>
        <p:spPr>
          <a:xfrm>
            <a:off x="6948360" y="5276880"/>
            <a:ext cx="21956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Machine learning rec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36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raining data – (typically) human-annotated with the correct sentiment values and used for training the algorith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est data – identical to the above except used for testing the trained algorithm to see how accurate it 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3" name="Picture 4" descr="j0285750"/>
          <p:cNvPicPr/>
          <p:nvPr/>
        </p:nvPicPr>
        <p:blipFill>
          <a:blip r:embed="rId3"/>
          <a:stretch/>
        </p:blipFill>
        <p:spPr>
          <a:xfrm>
            <a:off x="1332000" y="4292640"/>
            <a:ext cx="960480" cy="59040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5"/>
          <p:cNvSpPr/>
          <p:nvPr/>
        </p:nvSpPr>
        <p:spPr>
          <a:xfrm>
            <a:off x="1042920" y="5373720"/>
            <a:ext cx="1297080" cy="119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rain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357480" y="378936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Untrained algorith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6" name="Picture 7" descr="j0285750"/>
          <p:cNvPicPr/>
          <p:nvPr/>
        </p:nvPicPr>
        <p:blipFill>
          <a:blip r:embed="rId4"/>
          <a:stretch/>
        </p:blipFill>
        <p:spPr>
          <a:xfrm>
            <a:off x="3635280" y="4437000"/>
            <a:ext cx="1727280" cy="10620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8"/>
          <p:cNvSpPr/>
          <p:nvPr/>
        </p:nvSpPr>
        <p:spPr>
          <a:xfrm>
            <a:off x="3471840" y="3716280"/>
            <a:ext cx="17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rained algorith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Line 9"/>
          <p:cNvSpPr/>
          <p:nvPr/>
        </p:nvSpPr>
        <p:spPr>
          <a:xfrm flipV="1">
            <a:off x="2411280" y="5013000"/>
            <a:ext cx="576360" cy="647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Line 10"/>
          <p:cNvSpPr/>
          <p:nvPr/>
        </p:nvSpPr>
        <p:spPr>
          <a:xfrm>
            <a:off x="2340000" y="4724280"/>
            <a:ext cx="647640" cy="2890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0" name="Line 11"/>
          <p:cNvSpPr/>
          <p:nvPr/>
        </p:nvSpPr>
        <p:spPr>
          <a:xfrm>
            <a:off x="2987640" y="5013360"/>
            <a:ext cx="3603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Text Box 12"/>
          <p:cNvSpPr/>
          <p:nvPr/>
        </p:nvSpPr>
        <p:spPr>
          <a:xfrm>
            <a:off x="2544120" y="53006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Text Box 13"/>
          <p:cNvSpPr/>
          <p:nvPr/>
        </p:nvSpPr>
        <p:spPr>
          <a:xfrm>
            <a:off x="6227640" y="3645000"/>
            <a:ext cx="1152720" cy="119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es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3" name="Text Box 14"/>
          <p:cNvSpPr/>
          <p:nvPr/>
        </p:nvSpPr>
        <p:spPr>
          <a:xfrm>
            <a:off x="6300720" y="5300640"/>
            <a:ext cx="1224000" cy="4597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sul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Line 15"/>
          <p:cNvSpPr/>
          <p:nvPr/>
        </p:nvSpPr>
        <p:spPr>
          <a:xfrm flipH="1">
            <a:off x="5364000" y="4149720"/>
            <a:ext cx="720720" cy="431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Line 16"/>
          <p:cNvSpPr/>
          <p:nvPr/>
        </p:nvSpPr>
        <p:spPr>
          <a:xfrm>
            <a:off x="5364000" y="5157720"/>
            <a:ext cx="792360" cy="2872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Text Box 17"/>
          <p:cNvSpPr/>
          <p:nvPr/>
        </p:nvSpPr>
        <p:spPr>
          <a:xfrm>
            <a:off x="5568480" y="46530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Step 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7" name="Rectangle 18"/>
          <p:cNvSpPr/>
          <p:nvPr/>
        </p:nvSpPr>
        <p:spPr>
          <a:xfrm>
            <a:off x="5291280" y="3514680"/>
            <a:ext cx="3168360" cy="28670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-0.53941 -0.01065 E">
                                      <p:cBhvr>
                                        <p:cTn id="129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10-Fold cross-valid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 data data data data data data data data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 data data data data data data data data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 data data data data data data data data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 data data data data data data data data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 data data data data data data data data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 data data data data data data data data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 data data data data data data data data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 data data data data data data data data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 data data data data data data data data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SzPct val="1507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 data data data data data data data data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SzPct val="1507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252360" y="1844640"/>
            <a:ext cx="8856720" cy="503280"/>
          </a:xfrm>
          <a:prstGeom prst="rect">
            <a:avLst/>
          </a:prstGeom>
          <a:solidFill>
            <a:srgbClr val="ecd882">
              <a:alpha val="49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59259E-006 L -0.00382 0.06828 E">
                                      <p:cBhvr>
                                        <p:cTn id="135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48148E-006 L 0 0.12593 E">
                                      <p:cBhvr>
                                        <p:cTn id="139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7037E-006 L 0.00399 0.20486 E">
                                      <p:cBhvr>
                                        <p:cTn id="143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7037E-006 L 0.00399 0.26805 E">
                                      <p:cBhvr>
                                        <p:cTn id="147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animMotion origin="layout" path="M 3.05556E-006 3.7037E-006 L -0.00382 0.65648 E">
                                      <p:cBhvr>
                                        <p:cTn id="151" dur="5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755640" y="404640"/>
          <a:ext cx="2771640" cy="5735880"/>
        </p:xfrm>
        <a:graphic>
          <a:graphicData uri="http://schemas.openxmlformats.org/drawingml/2006/table">
            <a:tbl>
              <a:tblPr/>
              <a:tblGrid>
                <a:gridCol w="1192320"/>
                <a:gridCol w="1579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ound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ccuracy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1%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2%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1%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3%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1%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4%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2%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0%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4%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1%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Text Box 48"/>
          <p:cNvSpPr/>
          <p:nvPr/>
        </p:nvSpPr>
        <p:spPr>
          <a:xfrm>
            <a:off x="3417120" y="84924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Overall accuracy = Average of all 1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Text Box 49"/>
          <p:cNvSpPr/>
          <p:nvPr/>
        </p:nvSpPr>
        <p:spPr>
          <a:xfrm>
            <a:off x="4008240" y="1928880"/>
            <a:ext cx="4016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10-fold cross-valid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Maximises the amount of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raining”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Maximises the amount of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est”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04" name="Picture 51" descr="MCPE07250_0000[1]"/>
          <p:cNvPicPr/>
          <p:nvPr/>
        </p:nvPicPr>
        <p:blipFill>
          <a:blip r:embed="rId1"/>
          <a:stretch/>
        </p:blipFill>
        <p:spPr>
          <a:xfrm>
            <a:off x="7667640" y="5340240"/>
            <a:ext cx="125100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lternative accuracy measu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Polarity or subjectivity detection, or both combin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precision, recall, f-meas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Sentiment strength detec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Near accuracy (e.g., prediction is within 1 of the correct valu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orrel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best measure, as uses all the data full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ean percentage err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Results:+ve sentiment strength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826920" y="1533600"/>
          <a:ext cx="7552080" cy="5330880"/>
        </p:xfrm>
        <a:graphic>
          <a:graphicData uri="http://schemas.openxmlformats.org/drawingml/2006/table">
            <a:tbl>
              <a:tblPr/>
              <a:tblGrid>
                <a:gridCol w="2559240"/>
                <a:gridCol w="1185840"/>
                <a:gridCol w="1187280"/>
                <a:gridCol w="1292400"/>
                <a:gridCol w="13273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lgorithm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Optim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#featur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ccuracy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ccuracy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+/- 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orrelatio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SentiStrength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60.6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96.9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.5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imple logistic regressio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8.5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6.1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55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VM (SMO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7.6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5.4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538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J48 classification tre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5.2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5.9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548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JRip rule-based classifier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4.3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6.4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47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VM regression (SMO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4.1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7.3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46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daBoost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3.3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7.5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46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Decision tabl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3.3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6.7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43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ultilayer Perceptro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0.0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4.1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42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Naïve Bay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9.1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1.4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56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aselin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7.3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4.0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Random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9.8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6.9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01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TextBox 1"/>
          <p:cNvSpPr/>
          <p:nvPr/>
        </p:nvSpPr>
        <p:spPr>
          <a:xfrm>
            <a:off x="1614240" y="189000"/>
            <a:ext cx="72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ntiStrength vs. 693 other algorithms/varia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10" name="Picture 5" descr="j0305257"/>
          <p:cNvPicPr/>
          <p:nvPr/>
        </p:nvPicPr>
        <p:blipFill>
          <a:blip r:embed="rId1"/>
          <a:stretch/>
        </p:blipFill>
        <p:spPr>
          <a:xfrm>
            <a:off x="-15840" y="-14400"/>
            <a:ext cx="7002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39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ypes of sentiment analysis </a:t>
            </a:r>
            <a:r>
              <a:rPr b="0" i="1" lang="en-GB" sz="4400" spc="-1" strike="noStrike">
                <a:solidFill>
                  <a:srgbClr val="660066"/>
                </a:solidFill>
                <a:latin typeface="Tahoma"/>
              </a:rPr>
              <a:t>task 2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: Polarity dete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etecting whether a subjective text is positive or negat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Binary decis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an use machine learn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Courier New"/>
                <a:ea typeface="Courier New"/>
              </a:rPr>
              <a:t>This phone is very cheap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Courier New"/>
                <a:ea typeface="Courier New"/>
              </a:rPr>
              <a:t>It is lovel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Courier New"/>
                <a:ea typeface="Courier New"/>
              </a:rPr>
              <a:t>I am frustrated with the phon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Picture 2" descr="C:\Users\Mike\AppData\Local\Microsoft\Windows\Temporary Internet Files\Content.IE5\5GFALYVR\MC900441340[1].png"/>
          <p:cNvPicPr/>
          <p:nvPr/>
        </p:nvPicPr>
        <p:blipFill>
          <a:blip r:embed="rId4"/>
          <a:stretch/>
        </p:blipFill>
        <p:spPr>
          <a:xfrm>
            <a:off x="7667640" y="357336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sults:-ve sentiment strength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826920" y="1549440"/>
          <a:ext cx="7815600" cy="5315040"/>
        </p:xfrm>
        <a:graphic>
          <a:graphicData uri="http://schemas.openxmlformats.org/drawingml/2006/table">
            <a:tbl>
              <a:tblPr/>
              <a:tblGrid>
                <a:gridCol w="2559240"/>
                <a:gridCol w="1100160"/>
                <a:gridCol w="1344600"/>
                <a:gridCol w="1484280"/>
                <a:gridCol w="13273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lgorithm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Optim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#featur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ccuracy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ccuracy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+/- 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orrelatio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VM (SMO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73.5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2.7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42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VM regression (SMO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3.2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1.9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36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imple logistic regressio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2.9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2.2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36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SentiStrength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2.8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95.1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.56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Decision tabl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2.7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2.1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34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JRip rule-based classifier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2.2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1.5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30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J48 classification tre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1.1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1.6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23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ultilayer Perceptro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0.1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2.5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34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daBoost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9.9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0.6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aselin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9.9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0.6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Naïve Bay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8.0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9.8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31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Random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0.5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6.0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0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TextBox 104"/>
          <p:cNvSpPr/>
          <p:nvPr/>
        </p:nvSpPr>
        <p:spPr>
          <a:xfrm>
            <a:off x="1758600" y="0"/>
            <a:ext cx="72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ntiStrength vs. 693 other algorithms/varia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reating a gold standard is time-consuming but necessary – unless you can borrow 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achine learning algorithms use vectors of numbers extracted from the text – normally word/bigram/trigram frequenc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Feature selection is important for effective machine learning – use most discriminating features only: “I love” but not “it i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ross-validation allows data re-use – it is the best way to test an algorith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ang, B., &amp; Lee, L. (2008). Opinion mining and sentiment analysis. 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Foundations and Trends in Information Retrieval, 1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(1-2), 1-135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Witten, I. H., &amp; Frank, E. (2005). 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Data mining: Practical machine learning tools and techniqu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.San Francisco: Morgan Kaufman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Wiebe, J., Wilson, T., &amp; Cardie, C. (2005). Annotating expressions of opinions and emotions in language. 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Language Resources and Evaluation, 39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(2-3), 165-210. [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how to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create a gold standard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8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Types of sentiment analysis </a:t>
            </a:r>
            <a:r>
              <a:rPr b="0" i="1" lang="en-GB" sz="4000" spc="-1" strike="noStrike">
                <a:solidFill>
                  <a:srgbClr val="660066"/>
                </a:solidFill>
                <a:latin typeface="Tahoma"/>
              </a:rPr>
              <a:t>task 3</a:t>
            </a: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: Sentiment strength detec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easuring the strength of sentiment in a tex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Scale ratings – many different ones us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.g.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trong negative 1-2-3-4-5-6-7-8-9 strong positive  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1-2-3-4-5 negative &amp; 1-2-3-4-5 positiv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Courier New"/>
                <a:ea typeface="Courier New"/>
              </a:rPr>
              <a:t>The car is very goo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Picture 2" descr="C:\Users\Mike\AppData\Local\Microsoft\Windows\Temporary Internet Files\Content.IE5\H9YJUU9L\MC900440350[1].png"/>
          <p:cNvPicPr/>
          <p:nvPr/>
        </p:nvPicPr>
        <p:blipFill>
          <a:blip r:embed="rId4"/>
          <a:stretch/>
        </p:blipFill>
        <p:spPr>
          <a:xfrm>
            <a:off x="7380360" y="5854680"/>
            <a:ext cx="164124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Types of sentiment analysis </a:t>
            </a:r>
            <a:r>
              <a:rPr b="0" i="1" lang="en-GB" sz="4000" spc="-1" strike="noStrike">
                <a:solidFill>
                  <a:srgbClr val="660066"/>
                </a:solidFill>
                <a:latin typeface="Tahoma"/>
              </a:rPr>
              <a:t>task 4</a:t>
            </a: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: Multiple sentiment detec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etecting a range of emo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.g., happy, sad, angry, depressed, exci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s harder and some emotions are rare in tex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9" name="Picture 2" descr="C:\Users\Mike\AppData\Local\Microsoft\Windows\Temporary Internet Files\Content.IE5\C87WL2TK\MC900440653[1].wmf"/>
          <p:cNvPicPr/>
          <p:nvPr/>
        </p:nvPicPr>
        <p:blipFill>
          <a:blip r:embed="rId3"/>
          <a:stretch/>
        </p:blipFill>
        <p:spPr>
          <a:xfrm>
            <a:off x="7164360" y="47973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2. Machine learn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lgorithms typically have a variety of parameters that can be “learne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nput set of human-classified tex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lgorithm adjusts itself to perform well on the human-classified tex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hould also do well on similar new tex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2" name="Picture 4" descr="MPj04387080000[1]"/>
          <p:cNvPicPr/>
          <p:nvPr/>
        </p:nvPicPr>
        <p:blipFill>
          <a:blip r:embed="rId4"/>
          <a:stretch/>
        </p:blipFill>
        <p:spPr>
          <a:xfrm>
            <a:off x="7521480" y="189000"/>
            <a:ext cx="1297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Machine learning 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4360" y="1441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raining data – (typically) human-annotated with the correct sentiment values and used for training the algorith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est data – identical to the above except used for testing the trained algorithm to see how accurate it 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Picture 4" descr="j0285750"/>
          <p:cNvPicPr/>
          <p:nvPr/>
        </p:nvPicPr>
        <p:blipFill>
          <a:blip r:embed="rId3"/>
          <a:stretch/>
        </p:blipFill>
        <p:spPr>
          <a:xfrm>
            <a:off x="1332000" y="4292640"/>
            <a:ext cx="960480" cy="5904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1042920" y="5373720"/>
            <a:ext cx="1297080" cy="119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rain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57480" y="378936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Untrained algorith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8" name="Picture 7" descr="j0285750"/>
          <p:cNvPicPr/>
          <p:nvPr/>
        </p:nvPicPr>
        <p:blipFill>
          <a:blip r:embed="rId4"/>
          <a:stretch/>
        </p:blipFill>
        <p:spPr>
          <a:xfrm>
            <a:off x="3635280" y="4437000"/>
            <a:ext cx="1727280" cy="1062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8"/>
          <p:cNvSpPr/>
          <p:nvPr/>
        </p:nvSpPr>
        <p:spPr>
          <a:xfrm>
            <a:off x="3471840" y="3716280"/>
            <a:ext cx="17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rained algorith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Line 9"/>
          <p:cNvSpPr/>
          <p:nvPr/>
        </p:nvSpPr>
        <p:spPr>
          <a:xfrm flipV="1">
            <a:off x="2411280" y="5013000"/>
            <a:ext cx="576360" cy="647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Line 10"/>
          <p:cNvSpPr/>
          <p:nvPr/>
        </p:nvSpPr>
        <p:spPr>
          <a:xfrm>
            <a:off x="2340000" y="4724280"/>
            <a:ext cx="647640" cy="2890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2987640" y="5013360"/>
            <a:ext cx="3603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2544120" y="53006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6227640" y="3645000"/>
            <a:ext cx="1297080" cy="8254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es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6300720" y="5300640"/>
            <a:ext cx="1224000" cy="4597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sul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Line 15"/>
          <p:cNvSpPr/>
          <p:nvPr/>
        </p:nvSpPr>
        <p:spPr>
          <a:xfrm flipH="1">
            <a:off x="5364000" y="4149720"/>
            <a:ext cx="720720" cy="431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Line 16"/>
          <p:cNvSpPr/>
          <p:nvPr/>
        </p:nvSpPr>
        <p:spPr>
          <a:xfrm>
            <a:off x="5364000" y="5157720"/>
            <a:ext cx="792360" cy="2872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5568480" y="46530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Step 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5292720" y="3500280"/>
            <a:ext cx="3168720" cy="28670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-0.53941 -0.01065 E">
                                      <p:cBhvr>
                                        <p:cTn id="6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raining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Features : anna, hate, i, love, yo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1 feature vector: (1,1,1,0,0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2 feature vector: (0,0,1,1,1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n algorithm is told d1 is negative and d2 is positive: what will it lear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(-,-,?,+,+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6948360" y="6165720"/>
            <a:ext cx="1944720" cy="459720"/>
          </a:xfrm>
          <a:prstGeom prst="rect">
            <a:avLst/>
          </a:prstGeom>
          <a:gradFill rotWithShape="0">
            <a:gsLst>
              <a:gs pos="0">
                <a:srgbClr val="fff0a8"/>
              </a:gs>
              <a:gs pos="100000">
                <a:srgbClr val="fff9e4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 love yo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2916360" y="6165720"/>
            <a:ext cx="1942920" cy="459720"/>
          </a:xfrm>
          <a:prstGeom prst="rect">
            <a:avLst/>
          </a:prstGeom>
          <a:gradFill rotWithShape="0">
            <a:gsLst>
              <a:gs pos="0">
                <a:srgbClr val="fff0a8"/>
              </a:gs>
              <a:gs pos="100000">
                <a:srgbClr val="fff9e4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 hate An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TextBox 5"/>
          <p:cNvSpPr/>
          <p:nvPr/>
        </p:nvSpPr>
        <p:spPr>
          <a:xfrm>
            <a:off x="2369160" y="61722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6390360" y="61722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1265400" y="4797360"/>
            <a:ext cx="2442960" cy="5763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elwall, Michael (Prof)</cp:lastModifiedBy>
  <cp:lastPrinted>2013-06-28T11:54:03Z</cp:lastPrinted>
  <dcterms:modified xsi:type="dcterms:W3CDTF">2013-06-28T14:13:22Z</dcterms:modified>
  <cp:revision>360</cp:revision>
  <dc:subject/>
  <dc:title>Presentation</dc:title>
</cp:coreProperties>
</file>