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5.jpeg" ContentType="image/jpe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BAD-AF88-48D5-AE46-50F62BB5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877-E061-4214-A50C-BC8085E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DC6-8583-468A-9261-A4A54DE9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D0B-5C12-4CE2-A848-E78C6906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506-1308-4B33-9A94-CD24A5FE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D9A5-6AAA-485C-B3B0-5485419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43EC-E37F-4EEB-B7E0-22185E1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4AC-A496-4553-981C-AFDD239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B01-8119-4CA0-B072-A80DFBF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A7E-8482-46C3-B48F-76EF2E4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263-A97B-408B-ABF3-DC36355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AA8-257F-4AC7-9B5E-F3A73CDC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ED2-9C77-4F2A-AA0F-B106DED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707-7A32-4BB6-AFF5-6C45B19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55B3-9C84-4229-9516-33E4C87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808-0217-48CC-96D4-08105138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B888-2E91-4713-971D-98343D6A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C78-9B65-4961-8D7F-941FDB0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533-430D-4D57-8FE6-BF933BA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C32-F833-43EB-AD6A-F1BB67EA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A95-7740-46B2-A9B7-9E55BC7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963-8CB4-41E5-BF9A-26AFBBD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77E-E92B-441C-8D88-20FBF07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15F-38AB-4039-B6E1-E4252B2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48AB-063C-4CB7-9EF7-EAC56A680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0B8-3410-46D9-A353-CE248AF10314}" type="slidenum"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apting sentiment analysis systems for different domain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3, Part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OII logo"/>
          <p:cNvPicPr/>
          <p:nvPr/>
        </p:nvPicPr>
        <p:blipFill>
          <a:blip r:embed="rId2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[Åbo Akademi University logo]"/>
          <p:cNvPicPr/>
          <p:nvPr/>
        </p:nvPicPr>
        <p:blipFill>
          <a:blip r:embed="rId3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12" descr="University of Wolverhampton - A Learning Environment for the 21st Century"/>
          <p:cNvPicPr/>
          <p:nvPr/>
        </p:nvPicPr>
        <p:blipFill>
          <a:blip r:embed="rId4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Statistical Cybermetrics Research Group"/>
          <p:cNvPicPr/>
          <p:nvPr/>
        </p:nvPicPr>
        <p:blipFill>
          <a:blip r:embed="rId5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6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main-specific sentiment analysis can be more accurate than general sentiment analy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specially for product review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main-specific algorithms can be difficult to create due to the need for large gold standard text colle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main transfer can make it easier to generate domain-specific algorith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4" descr="C:\Documents and Settings\cm1993\Local Settings\Temporary Internet Files\Content.IE5\Q6R9Q1JW\MC900434799[1].png"/>
          <p:cNvPicPr/>
          <p:nvPr/>
        </p:nvPicPr>
        <p:blipFill>
          <a:blip r:embed="rId4"/>
          <a:stretch/>
        </p:blipFill>
        <p:spPr>
          <a:xfrm>
            <a:off x="5796000" y="18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Documents and Settings\cm1993\Local Settings\Temporary Internet Files\Content.IE5\J1IGTF7H\MC900440350[1].png"/>
          <p:cNvPicPr/>
          <p:nvPr/>
        </p:nvPicPr>
        <p:blipFill>
          <a:blip r:embed="rId5"/>
          <a:stretch/>
        </p:blipFill>
        <p:spPr>
          <a:xfrm>
            <a:off x="7451640" y="428760"/>
            <a:ext cx="1143000" cy="600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Documents and Settings\cm1993\Local Settings\Temporary Internet Files\Content.IE5\C5KV3Q14\MC900441340[1].png"/>
          <p:cNvPicPr/>
          <p:nvPr/>
        </p:nvPicPr>
        <p:blipFill>
          <a:blip r:embed="rId6"/>
          <a:stretch/>
        </p:blipFill>
        <p:spPr>
          <a:xfrm>
            <a:off x="4059360" y="260280"/>
            <a:ext cx="11556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entiStrength </a:t>
            </a:r>
            <a:r>
              <a:rPr b="1" lang="en-GB" sz="4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 Algorithm - Reca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st of 2,493 positive and negative sentiment terms and strengths (1 to 5), many stemmed, e.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che* = -2, abolish* = -2, abomina*=-3, admir*=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rm matching algorithm identif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(1) Full words or (2) longest stemmed wo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.g. admir* = 3; admiral* =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dmirals has score =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dmires has score =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st includes words with strong sentiment associ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.g., acrimon* = -2; abolish* = -2; lover* = 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ment strength is highest in sentence; or highest sentence if multiple sente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upervised SentiStrength has term strength optimis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rm strengths (e.g., ache* = -2) initially fixed by a human co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rm strengths optimised on gold standard training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djust term strengths to give best training set results then evaluate on test s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.g., training set: “My legs </a:t>
            </a:r>
            <a:r>
              <a:rPr b="0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ac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”: coder sentiment = 1,-3 =&gt; adjust sentiment of “ache*” from -2 to -3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supervised SentiStrength uses original term weights – no gold standard nee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 of sentiment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55280" y="162864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sentiment word strength list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terrify=-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mis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” = +2, -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spelling correcte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nicce -&gt; n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booster word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lter streng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en-GB" sz="2400" spc="-1" strike="noStrike">
                <a:solidFill>
                  <a:srgbClr val="00b050"/>
                </a:solidFill>
                <a:latin typeface="Tahoma"/>
              </a:rPr>
              <a:t>very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 happ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negating word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lip emo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b050"/>
                </a:solidFill>
                <a:latin typeface="Tahoma"/>
              </a:rPr>
              <a:t>not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 n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repeated letter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oost sentiment/+v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niiiic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emoticon list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:) =+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exclamation mark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count as +2 unless –ve  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hi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repeated punctua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oosts sentimen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good!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negative sentiment ignored in questions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h8 m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y leg ach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 admiiiire you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y legs really ached but I finished :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484360" y="1700280"/>
            <a:ext cx="115092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298320" y="12682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2 = ache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1476360" y="2997360"/>
            <a:ext cx="1727280" cy="7920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3780000" y="4076640"/>
            <a:ext cx="115236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7451640" y="4149720"/>
            <a:ext cx="50508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767320" y="27082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3 = admir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071960" y="51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306920" y="5229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856560" y="17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7754760" y="1844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1, 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6223680" y="8366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ve, neg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826400" y="29242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4,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7899480" y="429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2, -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2771640" y="4076640"/>
            <a:ext cx="93528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867320" y="5157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crease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99080" y="378936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iii increase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ersions: Windows, Java, live online (sentistrength.wlv.ac.uk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utput variants – all based on the same algorith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inary (positive/negativ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inary (positive/neutral/negativ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cale (-4 to +4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ual: Positive 1 to 5 AND Negative -1 to -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sing SentiStrength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3, Part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8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OII logo"/>
          <p:cNvPicPr/>
          <p:nvPr/>
        </p:nvPicPr>
        <p:blipFill>
          <a:blip r:embed="rId2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[Åbo Akademi University logo]"/>
          <p:cNvPicPr/>
          <p:nvPr/>
        </p:nvPicPr>
        <p:blipFill>
          <a:blip r:embed="rId3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2" name="Picture 12" descr="University of Wolverhampton - A Learning Environment for the 21st Century"/>
          <p:cNvPicPr/>
          <p:nvPr/>
        </p:nvPicPr>
        <p:blipFill>
          <a:blip r:embed="rId4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Statistical Cybermetrics Research Group"/>
          <p:cNvPicPr/>
          <p:nvPr/>
        </p:nvPicPr>
        <p:blipFill>
          <a:blip r:embed="rId5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"/>
          <p:cNvPicPr/>
          <p:nvPr/>
        </p:nvPicPr>
        <p:blipFill>
          <a:blip r:embed="rId6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indows version of SentiStrength (English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wnload program and zipfile SentiStrength_Data.zip from http://sentistrength.wlv.ac.uk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nzip SentiStrength_Data.zip, then start SentiStrength.exe and point to the unzipped SentiStrength_Data fol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ady to go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Input fi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EmotionLookUpTable.tx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- a list of emotion-bearing words with a strength 1 to 5 or -1 to -5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Emo</a:t>
            </a:r>
            <a:r>
              <a:rPr b="1" lang="en-GB" sz="3200" spc="-1" strike="noStrike">
                <a:solidFill>
                  <a:srgbClr val="002060"/>
                </a:solidFill>
                <a:latin typeface="Tahoma"/>
              </a:rPr>
              <a:t>ticon</a:t>
            </a: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LookUpTable.tx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- as above but for a list of emoticons. :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EnglishWordList.txt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- a list of English words – used for spelling correc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IdiomLookupTable.txt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– idiomatic phrases and sentiment strengths</a:t>
            </a:r>
            <a:br>
              <a:rPr sz="3200"/>
            </a:b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Input fi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NegatingWordList.tx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– negating words –e.g., not, don’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BoosterWordList.txt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- sentiment intensity modifiers -e.g., very, extremely, quite, som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SlangLookupTable.txt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– slang trans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The importance of </a:t>
            </a:r>
            <a:r>
              <a:rPr b="0" i="1" lang="en-GB" sz="3600" spc="-1" strike="noStrike">
                <a:solidFill>
                  <a:srgbClr val="660066"/>
                </a:solidFill>
                <a:latin typeface="Tahoma"/>
              </a:rPr>
              <a:t>domain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(topic) in sentiment analys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6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re these positive or negative, and what are the sentiment term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Maxtor hard disk was very large and could fit all of my da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ellphone was very large and could not fit in my pock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horror movie was very frighte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ar brakes were very frighte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Picture 7" descr="C:\Documents and Settings\cm1993\Local Settings\Temporary Internet Files\Content.IE5\C5KV3Q14\MC900441340[1].png"/>
          <p:cNvPicPr/>
          <p:nvPr/>
        </p:nvPicPr>
        <p:blipFill>
          <a:blip r:embed="rId2"/>
          <a:stretch/>
        </p:blipFill>
        <p:spPr>
          <a:xfrm>
            <a:off x="0" y="5702400"/>
            <a:ext cx="1155600" cy="1155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7885080" y="552456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8532720" cy="6885000"/>
          </a:xfrm>
          <a:prstGeom prst="rect">
            <a:avLst/>
          </a:prstGeom>
          <a:ln w="0">
            <a:noFill/>
          </a:ln>
        </p:spPr>
      </p:pic>
      <p:cxnSp>
        <p:nvCxnSpPr>
          <p:cNvPr id="304" name="Straight Arrow Connector 4"/>
          <p:cNvCxnSpPr/>
          <p:nvPr/>
        </p:nvCxnSpPr>
        <p:spPr>
          <a:xfrm flipV="1">
            <a:off x="250560" y="764280"/>
            <a:ext cx="1080" cy="52347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cxnSp>
        <p:nvCxnSpPr>
          <p:cNvPr id="305" name="Straight Arrow Connector 8"/>
          <p:cNvCxnSpPr/>
          <p:nvPr/>
        </p:nvCxnSpPr>
        <p:spPr>
          <a:xfrm flipV="1">
            <a:off x="971280" y="1096560"/>
            <a:ext cx="1080" cy="4277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cxnSp>
        <p:nvCxnSpPr>
          <p:cNvPr id="306" name="Straight Arrow Connector 10"/>
          <p:cNvCxnSpPr/>
          <p:nvPr/>
        </p:nvCxnSpPr>
        <p:spPr>
          <a:xfrm flipV="1">
            <a:off x="2050560" y="1915560"/>
            <a:ext cx="18360" cy="26643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307" name="TextBox 11"/>
          <p:cNvSpPr/>
          <p:nvPr/>
        </p:nvSpPr>
        <p:spPr>
          <a:xfrm>
            <a:off x="-48600" y="5999040"/>
            <a:ext cx="4632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lassifies sentiment in one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919800" y="5402160"/>
            <a:ext cx="72046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lassifies sentiment of each line of file separate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87240" y="4797360"/>
            <a:ext cx="61729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inds the optimal sentiment term weigh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ne tex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14412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ultiple tex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put file is list of texts, one per 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utput file is a copy of the texts, plus the classific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1006560" y="3656160"/>
            <a:ext cx="70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I just thought that I would say HI... ----- Love y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After the series it looked like shit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Damn its been a good while that i don’t see 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623880" y="531036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4   1   I just thought that I would say HI... ----- Love y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1   4   After the series it looked like shit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3   2   Damn its been a good while that i don’t see 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17" name="Straight Arrow Connector 6"/>
          <p:cNvCxnSpPr/>
          <p:nvPr/>
        </p:nvCxnSpPr>
        <p:spPr>
          <a:xfrm>
            <a:off x="4355640" y="4797000"/>
            <a:ext cx="1080" cy="648360"/>
          </a:xfrm>
          <a:prstGeom prst="straightConnector1">
            <a:avLst/>
          </a:prstGeom>
          <a:ln w="7632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misation and valid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or the optimisation and cross-validation options the input must be a </a:t>
            </a:r>
            <a:r>
              <a:rPr b="0" lang="en-GB" sz="3200" spc="-1" strike="noStrike">
                <a:solidFill>
                  <a:srgbClr val="9f8518"/>
                </a:solidFill>
                <a:latin typeface="Tahoma"/>
              </a:rPr>
              <a:t>Gold Standard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ositive – tab – Negative – tab –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ccuracy statistics are calcula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optimisation step alters the sentiment dictionary term weights to fit the data bet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., love (+4) -&gt; love (+3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-684360" y="0"/>
            <a:ext cx="982836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Java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ttp://sentistrength.wlv.ac.uk/SentiStrength</a:t>
            </a:r>
            <a:r>
              <a:rPr b="0" lang="en-GB" sz="2400" spc="-1" strike="noStrike">
                <a:solidFill>
                  <a:srgbClr val="ecd882"/>
                </a:solidFill>
                <a:latin typeface="Tahoma"/>
              </a:rPr>
              <a:t>---.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j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mercial ver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Quicker and more options than the Windows ver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eed to also download and unzip the Windows version SentiStrength_Data fol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uns on any computer with Java runtime install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sing the Java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rocess one text (must be escaped text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java -jar SentiStrength.jar sentidata C:/SentStrength_Data/ </a:t>
            </a:r>
            <a:r>
              <a:rPr b="0" lang="en-GB" sz="2800" spc="-1" strike="noStrike">
                <a:solidFill>
                  <a:srgbClr val="002060"/>
                </a:solidFill>
                <a:latin typeface="Tahoma"/>
              </a:rPr>
              <a:t>text i+don't+hate+yo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rocess all texts in 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java -jar SentiStrength.jar sentidata C:/SentStrength_Data/ </a:t>
            </a: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input C:/test.t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000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Java version op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s for Windows version but can als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isten at IP nu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cess stdin -&gt; std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un interactively from command 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as some linguistic op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can allow negation after sentiment terms (happy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n do binary/trinary/scale classifications instead of defa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Java version op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an ask for a list of word that occur often in incorrectly-classified 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Helps to identify missing sentiment terms – but may also identify emotional topic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.g.,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israel, palestine, camer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n political tex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java -jar c:\SentiStrength.jar input C:\twitter4242.txt 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termWeight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wo problems with sentiment wor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n-sentiment words may express clearly positive or negative opinions in a particular con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.g., large (memory, screen), heavy (computer, cellphone), long (travel time, film duration), reliable (brakes), unpredictable (movie plo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n-sentiment words (and even some sentiment words) vary in typical meaning according to con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ypically positive words in horror movie review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Frightening, scary, unexpected, entertaining, Depp(?), good, excellent, recommen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ypically positive words in family car review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liable, economical, roomy, large, strong, Honda(?), good, chea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What could be typically negative words in these contexts?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7" descr="C:\Documents and Settings\cm1993\Local Settings\Temporary Internet Files\Content.IE5\C5KV3Q14\MC900441340[1].png"/>
          <p:cNvPicPr/>
          <p:nvPr/>
        </p:nvPicPr>
        <p:blipFill>
          <a:blip r:embed="rId1"/>
          <a:stretch/>
        </p:blipFill>
        <p:spPr>
          <a:xfrm>
            <a:off x="108000" y="2637000"/>
            <a:ext cx="1155600" cy="1155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108000" y="4437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cm1993\Local Settings\Temporary Internet Files\Content.IE5\J1IGTF7H\MC900440350[1].png"/>
          <p:cNvPicPr/>
          <p:nvPr/>
        </p:nvPicPr>
        <p:blipFill>
          <a:blip r:embed="rId3"/>
          <a:stretch/>
        </p:blipFill>
        <p:spPr>
          <a:xfrm>
            <a:off x="7667640" y="5373720"/>
            <a:ext cx="11430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odifying SentiStrength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3, Part 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6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OII logo"/>
          <p:cNvPicPr/>
          <p:nvPr/>
        </p:nvPicPr>
        <p:blipFill>
          <a:blip r:embed="rId2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[Åbo Akademi University logo]"/>
          <p:cNvPicPr/>
          <p:nvPr/>
        </p:nvPicPr>
        <p:blipFill>
          <a:blip r:embed="rId3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0" name="Picture 12" descr="University of Wolverhampton - A Learning Environment for the 21st Century"/>
          <p:cNvPicPr/>
          <p:nvPr/>
        </p:nvPicPr>
        <p:blipFill>
          <a:blip r:embed="rId4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Statistical Cybermetrics Research Group"/>
          <p:cNvPicPr/>
          <p:nvPr/>
        </p:nvPicPr>
        <p:blipFill>
          <a:blip r:embed="rId5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"/>
          <p:cNvPicPr/>
          <p:nvPr/>
        </p:nvPicPr>
        <p:blipFill>
          <a:blip r:embed="rId6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1. Modifying SentiStrength for a different do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reate a </a:t>
            </a:r>
            <a:r>
              <a:rPr b="0" lang="en-GB" sz="3200" spc="-1" strike="noStrike">
                <a:solidFill>
                  <a:srgbClr val="ecd882"/>
                </a:solidFill>
                <a:latin typeface="Tahoma"/>
              </a:rPr>
              <a:t>gold standard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or that doma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= 1000+ random texts from the domain with human-coded positive and negative sentiment strength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uman codes should be given by accurate independent human co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ustomisa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nually add key domain-specific terms to sentiment word lis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heavy, strong, reliable, 3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e the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optimise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function to optimise the sentiment word strengths in </a:t>
            </a:r>
            <a:r>
              <a:rPr b="0" lang="en-GB" sz="3200" spc="-1" strike="noStrike">
                <a:solidFill>
                  <a:srgbClr val="002060"/>
                </a:solidFill>
                <a:latin typeface="Tahoma"/>
              </a:rPr>
              <a:t>EmotionLookUpTable.t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djusts sentiment values of wo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fire, gu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may be positive for the athletics dom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ustomisation 2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6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Java version of SentiStrength can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automatically suggest terms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o add to dictionary (the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termWeights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man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ists all terms in the data set and the proportion of times they are in incorrectly classifi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ort on PosClassAvDiff and NegClassAvDiff to find terms to add to the sentiment diction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9036000" cy="4624560"/>
          </a:xfrm>
          <a:prstGeom prst="rect">
            <a:avLst/>
          </a:prstGeom>
          <a:ln w="0">
            <a:noFill/>
          </a:ln>
        </p:spPr>
      </p:pic>
      <p:cxnSp>
        <p:nvCxnSpPr>
          <p:cNvPr id="351" name="Straight Arrow Connector 4"/>
          <p:cNvCxnSpPr/>
          <p:nvPr/>
        </p:nvCxnSpPr>
        <p:spPr>
          <a:xfrm>
            <a:off x="5148360" y="1484280"/>
            <a:ext cx="2016720" cy="1937520"/>
          </a:xfrm>
          <a:prstGeom prst="straightConnector1">
            <a:avLst/>
          </a:prstGeom>
          <a:ln w="9360">
            <a:solidFill>
              <a:srgbClr val="40458c"/>
            </a:solidFill>
            <a:prstDash val="sysDot"/>
            <a:miter/>
            <a:tailEnd len="med" type="arrow" w="med"/>
          </a:ln>
        </p:spPr>
      </p:cxnSp>
      <p:sp>
        <p:nvSpPr>
          <p:cNvPr id="352" name="TextBox 7"/>
          <p:cNvSpPr/>
          <p:nvPr/>
        </p:nvSpPr>
        <p:spPr>
          <a:xfrm>
            <a:off x="367200" y="733320"/>
            <a:ext cx="80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term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lond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in 29 texts that are estim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s having positive sentiment 0.55 too high, on aver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53" name="Straight Arrow Connector 11"/>
          <p:cNvCxnSpPr/>
          <p:nvPr/>
        </p:nvCxnSpPr>
        <p:spPr>
          <a:xfrm flipH="1">
            <a:off x="2770920" y="1149480"/>
            <a:ext cx="1296360" cy="2280240"/>
          </a:xfrm>
          <a:prstGeom prst="straightConnector1">
            <a:avLst/>
          </a:prstGeom>
          <a:ln w="9360">
            <a:solidFill>
              <a:srgbClr val="40458c"/>
            </a:solidFill>
            <a:prstDash val="sysDot"/>
            <a:miter/>
            <a:tailEnd len="med" type="arrow" w="med"/>
          </a:ln>
        </p:spPr>
      </p:cxnSp>
      <p:sp>
        <p:nvSpPr>
          <p:cNvPr id="354" name="TextBox 12"/>
          <p:cNvSpPr/>
          <p:nvPr/>
        </p:nvSpPr>
        <p:spPr>
          <a:xfrm>
            <a:off x="4320" y="639756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dd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lond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s a mildly negative term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398160" y="271440"/>
            <a:ext cx="85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ample output from SentiStrength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termWeight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man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ystematic method for: Issue-specific wor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corpus of classified text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heck SentiStrength classification of each text against human 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 each disagreement, record terms in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 each term, count the number of times it is in texts classified as too positive/too nega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nually check the top words for domain-specific terminology to add to the lexic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ample – Riot words added to the lexic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692360" y="1916280"/>
          <a:ext cx="4967280" cy="4167000"/>
        </p:xfrm>
        <a:graphic>
          <a:graphicData uri="http://schemas.openxmlformats.org/drawingml/2006/table">
            <a:tbl>
              <a:tblPr/>
              <a:tblGrid>
                <a:gridCol w="3519360"/>
                <a:gridCol w="1447920"/>
              </a:tblGrid>
              <a:tr h="12211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s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ste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ton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tone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rminghamriot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inwashing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20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gh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ample – Alternative Vote words added to the lexic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971640" y="1484280"/>
          <a:ext cx="6913440" cy="6091200"/>
        </p:xfrm>
        <a:graphic>
          <a:graphicData uri="http://schemas.openxmlformats.org/drawingml/2006/table">
            <a:tbl>
              <a:tblPr/>
              <a:tblGrid>
                <a:gridCol w="4537080"/>
                <a:gridCol w="2376360"/>
              </a:tblGrid>
              <a:tr h="118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m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ight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e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701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ter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t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irer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armongerers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70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ck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</a:t>
                      </a:r>
                      <a:endParaRPr b="0" lang="en-US" sz="4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sult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improvement of up to 8% - depending on the topi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2: Mood adap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od is set to negative or posit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. UK Riots: negative, Olympics: posi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pressions of sentiment without polarity are interpreted as negative if there is a negative mood, positive if a positive mo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“Miiiikee!!!” is positive for olympics, negative for rio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omain depend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polarity and strength of words may vary by doma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is is typically opinion or judgement words rather than direct sentiment words – e.g.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rightening” is typically positive for a horror movie review, but negative for a car re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rge” is typically positive for hard disk reviews, negative for cellph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Picture 2" descr="C:\Documents and Settings\cm1993\Local Settings\Temporary Internet Files\Content.IE5\SGJA8B1M\MC900048766[1].wmf"/>
          <p:cNvPicPr/>
          <p:nvPr/>
        </p:nvPicPr>
        <p:blipFill>
          <a:blip r:embed="rId3"/>
          <a:stretch/>
        </p:blipFill>
        <p:spPr>
          <a:xfrm>
            <a:off x="150840" y="4653000"/>
            <a:ext cx="895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ood resu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8000" y="1773360"/>
          <a:ext cx="9036000" cy="2962080"/>
        </p:xfrm>
        <a:graphic>
          <a:graphicData uri="http://schemas.openxmlformats.org/drawingml/2006/table">
            <a:tbl>
              <a:tblPr/>
              <a:tblGrid>
                <a:gridCol w="1008000"/>
                <a:gridCol w="1079640"/>
                <a:gridCol w="1239840"/>
                <a:gridCol w="1498320"/>
                <a:gridCol w="1420920"/>
                <a:gridCol w="1395360"/>
                <a:gridCol w="1393920"/>
              </a:tblGrid>
              <a:tr h="172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in.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pus size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pu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in. corr.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. moo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in. corr.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g. moo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 corr.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. moo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 corr.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g. moo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61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t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4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4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360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434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324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410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84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84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415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321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4038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302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3. Modifying SentiStrength for a different langu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Translate all the input files in SentiStrength_Dat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Pay particular attention to making the list of terms in </a:t>
            </a:r>
            <a:r>
              <a:rPr b="0" lang="en-GB" sz="2600" spc="-1" strike="noStrike">
                <a:solidFill>
                  <a:srgbClr val="002060"/>
                </a:solidFill>
                <a:latin typeface="Tahoma"/>
              </a:rPr>
              <a:t>EmotionLookUpTable.txt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as complete as possibl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4"/>
          <a:stretch/>
        </p:blipFill>
        <p:spPr>
          <a:xfrm>
            <a:off x="5172120" y="3357720"/>
            <a:ext cx="3340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79680" cy="2467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motionLookupTable.tx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4500720" y="2093760"/>
            <a:ext cx="4475160" cy="451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>
            <a:off x="39600" y="2390760"/>
            <a:ext cx="31687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NegatingWordList.tx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2238480" cy="2984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1120680" y="1695600"/>
            <a:ext cx="1008000" cy="4989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3203640" y="2419200"/>
            <a:ext cx="22082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BoosterWordList.tx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6000" y="1996920"/>
            <a:ext cx="3214800" cy="4707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108000" y="3792600"/>
            <a:ext cx="3384360" cy="291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656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pecial consideration for text without word boundar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ext without word boundaries must be pre-segmented into words before being entered into SentiStreng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e a word-segmentation progra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r write code to identify and separate out all sentiment-related terms in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71424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reate a </a:t>
            </a:r>
            <a:r>
              <a:rPr b="0" lang="en-GB" sz="2800" spc="-1" strike="noStrike">
                <a:solidFill>
                  <a:srgbClr val="ecd882"/>
                </a:solidFill>
                <a:latin typeface="Tahoma"/>
              </a:rPr>
              <a:t>gold standard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 appropriate text in that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e th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optimis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option to optimise the sentiment word strengths in </a:t>
            </a:r>
            <a:r>
              <a:rPr b="0" lang="en-GB" sz="2800" spc="-1" strike="noStrike">
                <a:solidFill>
                  <a:srgbClr val="002060"/>
                </a:solidFill>
                <a:latin typeface="Tahoma"/>
              </a:rPr>
              <a:t>EmotionLookUpTable.tx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&amp; to evaluate the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e SentiStrength with the new </a:t>
            </a:r>
            <a:r>
              <a:rPr b="0" lang="en-GB" sz="2800" spc="-1" strike="noStrike">
                <a:solidFill>
                  <a:srgbClr val="002060"/>
                </a:solidFill>
                <a:latin typeface="Tahoma"/>
              </a:rPr>
              <a:t>EmotionLookUpTable.tx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&amp; other translated fi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d a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new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ecd882"/>
                </a:solidFill>
                <a:latin typeface="Tahoma"/>
              </a:rPr>
              <a:t>gold standar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eat to increase accura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Extra language customisations (Java version parameters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lwaysSplitWordsAtApostrophes (split words when an apostrophe is met – important for languages that merge words with ’, like French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.g., t’aime -&gt; t’ aime with this op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egatingWordsOccurAfter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Germanic languag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NegatingPositiveFlipsEmotion (don't use negating words to flip +ve word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egatedWordStrengthMultiplier (strength multiplier when negated (default=0.5)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xWordsSinceNegative (max words between negator &amp; sentiment word (default 0)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questionsReduceNeg (-ve sentiment reduced in question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Extra language customisations (Java version parameters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MultiplePosWords (don't allow multiple +ve words to increase +ve sentime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MultipleNegWords (don't allow multiple -ve words to increase -ve sentime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IgnoreBoosterWordsAfterNegatives (don't ignore boosters after negating wor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DeleteExtraDuplicateLetters (don't delete extra duplicate letters in words even when they are impossible, e.g., heyyy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llegalDoubleLettersInWordMiddle [letters never duplicate in word middles] this is a list of characters that never occur twice in succession. For English the following list is used (default):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ahijkquvxyz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llegalDoubleLettersAtWordEnd [letters never duplicate at word ends] this is a list of characters that never occur twice in succession at the end of a word. For English the following list is used (default):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achijkmnpqruvwxy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MultipleLetters (don't use additional letters to boost sentime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 is a general purpose program for detecting positive and negative sentiment strength in short social web tex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an be customised for languages and specific domai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Other sentiment tasks include polarity and subjectivity dete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chine learning with unigrams-trigrams is a common alternative sentiment analysis metho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omain context depend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polarity and strength of words may also vary by context within a domain, e.g.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rge” is typically positive for a cellphone screen but negative for cellphone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heap” may be positive for a car overall but negative for the seats (or individual p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ny other examples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Picture 7" descr="C:\Documents and Settings\cm1993\Local Settings\Temporary Internet Files\Content.IE5\C5KV3Q14\MC900441340[1].png"/>
          <p:cNvPicPr/>
          <p:nvPr/>
        </p:nvPicPr>
        <p:blipFill>
          <a:blip r:embed="rId2"/>
          <a:stretch/>
        </p:blipFill>
        <p:spPr>
          <a:xfrm>
            <a:off x="74520" y="3429000"/>
            <a:ext cx="1155960" cy="1155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Documents and Settings\cm1993\Local Settings\Temporary Internet Files\Content.IE5\J1IGTF7H\MC900440350[1].png"/>
          <p:cNvPicPr/>
          <p:nvPr/>
        </p:nvPicPr>
        <p:blipFill>
          <a:blip r:embed="rId3"/>
          <a:stretch/>
        </p:blipFill>
        <p:spPr>
          <a:xfrm>
            <a:off x="179280" y="5073480"/>
            <a:ext cx="11415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ue, A., &amp; Gamon, M. (2005). Customizing sentiment classifiers to new domains: A case study. 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Proccedings of the International Conference on Recent Advances in Natural Language Processing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 http://research.microsoft.com/pubs/65430/new_domain_sentiment.pd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lwall, M., Buckley, K., Paltoglou, G., Cai, D., &amp; Kappas, A. (2010). Sentiment strength detection in short informal text. 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61(12), 2544–2558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lwall, M., Buckley, K., &amp; Paltoglou, G. (2011). Sentiment in Twitter events. 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,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61(12), 2544–2558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lwall, M., &amp; Buckley, K. (2013). Topic-based sentiment analysis for the Social Web: The role of mood and issue-related words.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 Journal of the American Society for Information Science and Technology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64(8), 1608–1617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Domain dependence – implications for sentiment analys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eneric sentiment algorithms will miss some domain-specific expres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main-specific algorithms are trained on one type of data (e.g., movie reviews or book review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an be more accurate than generic algorith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eed domain-specific training data – often difficult to produ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omain transf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92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Domain transfer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is the problem of taking a sentiment classifier trained on one domain (e.g., book reviews) and adapting it to work on another domain (e.g., movie review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hy not train a new classifier on the new domai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ecause of the problem creating training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specially if there ar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any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new doma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C:\Documents and Settings\cm1993\Local Settings\Temporary Internet Files\Content.IE5\C5KV3Q14\MC900441340[1].png"/>
          <p:cNvPicPr/>
          <p:nvPr/>
        </p:nvPicPr>
        <p:blipFill>
          <a:blip r:embed="rId1"/>
          <a:stretch/>
        </p:blipFill>
        <p:spPr>
          <a:xfrm>
            <a:off x="4903920" y="69840"/>
            <a:ext cx="72360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Domain transfer A -&gt; B: 5 metho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 classifier on car reviews, apply directly to phone reviews (no domain transfe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e “ensembles” of classifiers trained on different domains (e.g., cars, books, TV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 classifier on car reviews, classify phone review texts with the classification of car review texts that they are most similar to (e.g., TF-IDF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 classifier on car reviews, annotate phone review texts with the classification of car review texts that they are most similar to (e.g., TF-IDF) &amp; retrain classifier on all car &amp; phone review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 a classifier for phones on the car review data but with only features found in phone review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080" indent="-40608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Picture 3" descr="C:\Documents and Settings\cm1993\Local Settings\Temporary Internet Files\Content.IE5\J1IGTF7H\MC900440350[1].png"/>
          <p:cNvPicPr/>
          <p:nvPr/>
        </p:nvPicPr>
        <p:blipFill>
          <a:blip r:embed="rId2"/>
          <a:stretch/>
        </p:blipFill>
        <p:spPr>
          <a:xfrm>
            <a:off x="3564000" y="131760"/>
            <a:ext cx="1141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How should the phone reviews be classified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3" name="Oval 3"/>
          <p:cNvSpPr/>
          <p:nvPr/>
        </p:nvSpPr>
        <p:spPr>
          <a:xfrm>
            <a:off x="1763640" y="2492280"/>
            <a:ext cx="647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1440000" y="4365720"/>
            <a:ext cx="647640" cy="718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Oval 6"/>
          <p:cNvSpPr/>
          <p:nvPr/>
        </p:nvSpPr>
        <p:spPr>
          <a:xfrm>
            <a:off x="5003640" y="4508640"/>
            <a:ext cx="648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327640" y="2514600"/>
            <a:ext cx="6494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3348000" y="3235320"/>
            <a:ext cx="647640" cy="71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7164360" y="3801960"/>
            <a:ext cx="647640" cy="71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2411280" y="3789360"/>
            <a:ext cx="648000" cy="71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796000" y="4848120"/>
            <a:ext cx="647640" cy="72072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2468520" y="2349360"/>
            <a:ext cx="647640" cy="71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6300720" y="3081240"/>
            <a:ext cx="647640" cy="72072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7" descr="C:\Documents and Settings\cm1993\Local Settings\Temporary Internet Files\Content.IE5\C5KV3Q14\MC900441340[1].png"/>
          <p:cNvPicPr/>
          <p:nvPr/>
        </p:nvPicPr>
        <p:blipFill>
          <a:blip r:embed="rId2"/>
          <a:stretch/>
        </p:blipFill>
        <p:spPr>
          <a:xfrm>
            <a:off x="6300720" y="5445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Documents and Settings\cm1993\Local Settings\Temporary Internet Files\Content.IE5\J1IGTF7H\MC900440350[1].png"/>
          <p:cNvPicPr/>
          <p:nvPr/>
        </p:nvPicPr>
        <p:blipFill>
          <a:blip r:embed="rId3"/>
          <a:stretch/>
        </p:blipFill>
        <p:spPr>
          <a:xfrm>
            <a:off x="468360" y="5157720"/>
            <a:ext cx="1141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</cp:lastModifiedBy>
  <cp:lastPrinted>2013-06-28T11:53:54Z</cp:lastPrinted>
  <dcterms:modified xsi:type="dcterms:W3CDTF">2013-07-18T11:36:06Z</dcterms:modified>
  <cp:revision>335</cp:revision>
  <dc:subject/>
  <dc:title>Presentation</dc:title>
</cp:coreProperties>
</file>